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83F-6026-45C2-978E-6ED6465D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532-9A6C-4C2C-B190-B9EBBD44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4A7-E219-44CA-A654-516811B9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ECD-D003-4ECA-8153-B7A31265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CB2A-B672-480F-946F-C0EE9F0E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B4EA-8F56-4F31-8F1E-934192E8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5678-0030-456D-B8BF-821E1472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B5E6-E244-4F81-BB2B-CA95B37D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CC20-9E5F-47B2-B5B2-1365B2BE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1446-92B0-44E0-8849-90C5602E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777F-DA8C-4B49-8FA4-069B0597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19B-B0E1-4BCA-B9CC-D88C74E6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1D3A-93C5-4E15-A794-73FC1841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68E7-71D4-4CF5-A319-3DAB73EB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E194-4D81-4D1E-8FF3-85D088D2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9367-1E52-414E-AF01-AF3999A0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0223-1B94-4D47-8371-1FEB687F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AF76-6E8E-49F0-A954-A182C830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40154-CC78-42C9-8DB2-FBB9B838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8A10E-5D26-43A1-980D-5F2EF237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6AE12-A639-41E5-B33E-7EED2486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4DFD2-82CA-49DF-AC81-CF24A079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8C5-26A6-4811-9763-A3529E78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66B78-76F8-4C10-915D-BDA979A2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EE33B-3249-49A8-925E-9678E258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A2565-E4D7-4150-AB35-E76D8BC0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BBA8E-F69F-4521-884A-CA0C69E5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206D-35BE-4584-AFEF-4712EB98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E0E6A-59C9-4C8B-B5A3-0BC125C0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D023-976E-4268-B4E9-E4D5ACD1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A32EF-7887-47E7-9542-CDCD5ADE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5BF45-CAF5-41DE-8896-7C9A793D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55598-F6FA-4411-9050-F54843B0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3C4-3009-44F5-A531-4B189F0E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0D47E-7BD0-4D61-B9BE-09E91BCD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D1E52-4853-43F1-899D-A438E8BB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B6D5E-B5CF-4BF6-A2AB-2020E02B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27B6F-6A8C-4175-BAFF-468D4E01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1E40B-9946-456D-8363-1F134895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5FC8-4145-43CE-8B90-48635B3E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146E7-2430-4678-BA4F-0939F8CF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E3FEA-FD5B-4974-8634-7D4AB845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923A4-9A53-455D-A666-C464E1BD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EEB-0E49-4889-981C-E84C4889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E12-1B68-401B-92F5-D1FCE029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592-63E4-453F-9A73-6B2E9B09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5A4-7B7E-4B4D-9214-4CE34DD4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AF0-69E1-409A-ACD5-B01BF0C0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7E9A-A37C-48DF-BD52-C74C87485DC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8B0E-E3D4-4599-9591-8625D27CF4B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D1EF-05F2-4587-9FAC-59538C9F58D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473E-851A-4ABC-BB3C-900A5E02C0D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libri"/>
              </a:rPr>
              <a:t>Conférence internationale sur le financement de la politique agricole régionale de l’Afrique de l’Ouest (ECOWAP/PDDAA)</a:t>
            </a:r>
            <a:br>
              <a:rPr sz="3200"/>
            </a:br>
            <a:r>
              <a:rPr b="0" lang="en-US" sz="3200" spc="-1" strike="noStrike">
                <a:solidFill>
                  <a:srgbClr val="dbf5f9"/>
                </a:solidFill>
                <a:latin typeface="Calibri"/>
              </a:rPr>
              <a:t>Abuja – 11 &amp; 12 novembre 2009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6000" y="3789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Pacte régional de partenariat pou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la mise en œuvre de l’ECOWAP/PDDA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onstantia"/>
              </a:rPr>
              <a:t>M. Jonas Hemou –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onstantia"/>
              </a:rPr>
              <a:t>Directeur des Relations extérieures</a:t>
            </a:r>
            <a:r>
              <a:rPr b="0" lang="fr-FR" sz="34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6430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Pacte régional de partenariat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1125360"/>
            <a:ext cx="86979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2548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3. Cinq engagements des partenaires techniques et financi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74760" indent="-387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ligner, harmoniser et coordonner l’ensemble de leurs appuis autour de l’ECOWAP/PDDA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74760" indent="-387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74760" indent="-387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omouvoir la cohérence et l’efficacité de l’aide régiona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74760" indent="-387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74760" indent="-387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ugmenter leurs appuis à la mise en œuvre de l’ECOWAP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74760" indent="-387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74760" indent="-387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méliorer la prévisibilité de leur aid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74760" indent="-387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74760" indent="-387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dopter le dispositif de suivi-évaluation de l’ECOWAP pour évaluer leur appui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74760" indent="-387720">
              <a:spcBef>
                <a:spcPts val="2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2" marL="1274760" indent="-387720">
              <a:spcBef>
                <a:spcPts val="2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Pacte régional de partenariat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1125360"/>
            <a:ext cx="86979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816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16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4. Les  engagements des organisations professionnelles du secteur agrico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16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61440" indent="-3837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sociations et organisations professionnelles 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682280" indent="-365400">
              <a:spcBef>
                <a:spcPts val="2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3" marL="1682280" indent="-36540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évelopper la production agricole et promouvoir les chaines de valeu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682280" indent="-36540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avoriser la capitalisation et partage d’expérienc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682280" indent="-36540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articiper activement aux processus de concertatio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682280" indent="-36540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articiper à la mobilisation des ressources financièr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682280" indent="-36540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tribuer au suivi-évalu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261440" indent="-3837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teur privé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682280" indent="-36540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tensifier leur engagement dans le financement de l’agricultur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682280" indent="-36540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tribuer à l’amélioration de la qualité des denrées alimentair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682280" indent="-36540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articiper activement aux processus de concertatio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682280" indent="-36540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682280" indent="-365400">
              <a:spcBef>
                <a:spcPts val="2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2" marL="1261440" indent="-383760">
              <a:spcBef>
                <a:spcPts val="2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Pacte régional de partenariat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5. Les engagements de l’Union africaine / NEP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outenir la CEDEAO par un appui politique, financier et techniq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rci pour votre aimable atten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Pacte régional de partenariat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Plan de la présent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L’esprit du pacte région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2. </a:t>
            </a: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Les engagements des parties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dd9"/>
                </a:solidFill>
                <a:latin typeface="Constantia"/>
              </a:rPr>
              <a:t>Engagements commun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dd9"/>
                </a:solidFill>
                <a:latin typeface="Constantia"/>
              </a:rPr>
              <a:t>Engagements de la CEDEA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dd9"/>
                </a:solidFill>
                <a:latin typeface="Constantia"/>
              </a:rPr>
              <a:t>Engagements des partenaire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dd9"/>
                </a:solidFill>
                <a:latin typeface="Constantia"/>
              </a:rPr>
              <a:t>Engagements des autres parties prenant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Pacte régional de partenariat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1040" indent="-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dd9"/>
                </a:solidFill>
                <a:latin typeface="Constantia"/>
              </a:rPr>
              <a:t>L’esprit du pacte régiona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9dd9"/>
                </a:solidFill>
                <a:latin typeface="Calibri"/>
              </a:rPr>
              <a:t>L’esprit du pacte régional</a:t>
            </a:r>
            <a:br>
              <a:rPr sz="3900"/>
            </a:br>
            <a:endParaRPr b="0" lang="en-US" sz="3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4000" y="119664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42400" indent="-452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Il exprime la volonté des parties prenantes de </a:t>
            </a:r>
            <a:r>
              <a:rPr b="0" lang="fr-FR" sz="2400" spc="-1" strike="noStrike">
                <a:solidFill>
                  <a:srgbClr val="ff0000"/>
                </a:solidFill>
                <a:latin typeface="Constantia"/>
              </a:rPr>
              <a:t>respecter les multiples engagements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souscrits dans les fora internationaux ou régionaux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2400" indent="-452520">
              <a:spcBef>
                <a:spcPts val="34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301040" indent="-395640">
              <a:spcBef>
                <a:spcPts val="524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nstantia"/>
              </a:rPr>
              <a:t>Sur la priorité accordée à l’agriculture et à la sécurité alimentaire (« 10% Maputo »; G8 Aquilla, G20 Pittsburgh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01040" indent="-395640">
              <a:spcBef>
                <a:spcPts val="32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2" marL="1301040" indent="-395640">
              <a:spcBef>
                <a:spcPts val="524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nstantia"/>
              </a:rPr>
              <a:t>Sur les objectifs du millénaire pour le développemen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01040" indent="-395640">
              <a:spcBef>
                <a:spcPts val="374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2" marL="1301040" indent="-395640">
              <a:spcBef>
                <a:spcPts val="524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nstantia"/>
              </a:rPr>
              <a:t>Sur la nécessité de s’appuyer sur des politiques publiques négociées avec les acteu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01040" indent="-395640">
              <a:spcBef>
                <a:spcPts val="374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2" marL="1301040" indent="-395640">
              <a:spcBef>
                <a:spcPts val="524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nstantia"/>
              </a:rPr>
              <a:t>Sur l’efficacité de l’aide (cf. déclaration de Paris, Plan d’action d’Accra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01040" indent="-395640">
              <a:spcBef>
                <a:spcPts val="524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84240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9dd9"/>
                </a:solidFill>
                <a:latin typeface="Calibri"/>
              </a:rPr>
              <a:t>L’esprit du pacte régional</a:t>
            </a:r>
            <a:br>
              <a:rPr sz="4300"/>
            </a:b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4360" y="11970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2" marL="1182600" indent="-3596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76572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 Il reflète une volonté d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transformer en profondeur les modalités de coopér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ntre les acteurs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65720" indent="-411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espect des politiques et stratégies des pays et communautés économiques régionales (souveraineté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3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eadership exercé par les gouvernements et institutions régiona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3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lignement des aides sur ces politiques et programm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2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ordination sous l’égide des Etats et C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2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utualisation des ressources au service des priorités nationales et régionale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Pacte régional de partenariat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104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dd9"/>
                </a:solidFill>
                <a:latin typeface="Constantia"/>
              </a:rPr>
              <a:t>2. </a:t>
            </a:r>
            <a:r>
              <a:rPr b="0" lang="en-US" sz="3200" spc="-1" strike="noStrike">
                <a:solidFill>
                  <a:srgbClr val="009dd9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9dd9"/>
                </a:solidFill>
                <a:latin typeface="Constantia"/>
              </a:rPr>
              <a:t>Les engagements des parties 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dd9"/>
                </a:solidFill>
                <a:latin typeface="Constantia"/>
              </a:rPr>
              <a:t>Engagements communs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dd9"/>
                </a:solidFill>
                <a:latin typeface="Constantia"/>
              </a:rPr>
              <a:t>Engagements de la CEDEAO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dd9"/>
                </a:solidFill>
                <a:latin typeface="Constantia"/>
              </a:rPr>
              <a:t>Engagements des partenaires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dd9"/>
                </a:solidFill>
                <a:latin typeface="Constantia"/>
              </a:rPr>
              <a:t>Engagements des autres parties prenantes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Pacte régional de partenariat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79128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1. Quatre engagements communs</a:t>
            </a: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EDEAO – PT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1280" indent="-425160">
              <a:spcBef>
                <a:spcPts val="34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tre en place un mécanisme de coordination et de gestion de l’aide au sein du dispositif institutionnel et financier de l’ECOWAP/PDDA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nforcer les capacités de toutes les parties prenan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pecter le principe de subsidiarit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3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éfinir et mettre en place un mécanisme de suivi-évalu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Pacte régional de partenariat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1125360"/>
            <a:ext cx="86979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79128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128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2. Neuf engagements de la CEDEA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1280" indent="-425160">
              <a:spcBef>
                <a:spcPts val="34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biliser les moyens indispensables à la mise en œuvre des programmes mobilisate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ursuivre ou engager les réformes sectorielles / objectifs ECOW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aborer et adopter les plans d’actions des programmes mobilisate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’assurer du respect des orientations de l’ECOWAP/PDDAA par les investisseurs publics et privés non signataires du pac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Pacte régional de partenariat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1125360"/>
            <a:ext cx="86979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104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2. Neuf engagements de la CEDEAO (suit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34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ettre en œuvre le dispositif institutionnel et le mécanisme de financement retenu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3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biliser les ressources financières en appuis aux Etats membres / PNI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3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 financer les programmes mobilisateurs à partir des ressources propres de la Commission: minimum 15 %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2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ccroître les ressources communautaires ciblées sur l’agriculture et l’alimentation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2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surer la transparence des ressources mobilisée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9:41:14Z</dcterms:created>
  <dc:creator>Utilisateur Windows</dc:creator>
  <dc:description/>
  <dc:language>en-US</dc:language>
  <cp:lastModifiedBy>John Staatz</cp:lastModifiedBy>
  <dcterms:modified xsi:type="dcterms:W3CDTF">2009-11-11T07:27:26Z</dcterms:modified>
  <cp:revision>34</cp:revision>
  <dc:subject/>
  <dc:title>Les nouvelles orientations d’ECOWAP à la lumière de la conjoncture internationale</dc:title>
</cp:coreProperties>
</file>