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2EF2-5BAD-4789-B83D-8697B3B2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3666-52E8-41BE-A2EA-E6E1E39D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56EA-9B5F-4551-B16E-FC2BD971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FB92-F9E6-4EC7-893B-0411BBD25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D5E9-126E-48AD-859F-5000B108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FAF5-2BED-4D47-9040-07E1093A2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41B4-3781-4471-ADFC-7B309115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CA4D-A035-4F64-90FA-218CE472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EC7A-6449-479A-BE6D-CE988000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5ACE-E7C9-40C3-A6B2-47197611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8B241-8E0F-4096-8D02-11DC8640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D5B8-C67E-4F5E-B3C7-AB2E775F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4AE1-460C-4116-B55D-61F46674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BC01-EDB4-4A4F-87C1-6B43A452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C26C-BF40-41E5-A149-A80C6632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D5B29-2F9C-4DC1-9869-54737F23A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D615-0F6F-4CBB-A6A6-4CCCAD85B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84C0F-24C8-4AD2-BADB-6233B0EB4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9018B-9F49-4B7B-AA4B-7899F949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FE4A-9828-4984-9E78-1DAC65D3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1467D-DB69-48DA-A998-14DB4D014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710AD-54E1-45AB-9DD5-DEA76E93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19E-5796-4CE8-8CD6-619329D5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B7AF1-4B42-4161-8AAB-E3274C52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B47AE-0614-4CFF-A4CD-2873093E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56D95-1894-44F9-B1FF-3EB1953B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10DB6-CFFC-4653-9BA0-0DBDBB04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F66A8-4132-4D93-9A77-621191B85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2DB91-C677-4039-837B-4779EF661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51A85-4343-4552-96BA-0E65566C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6885F-3476-45EF-847E-78EECC32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40448-E3A0-4126-A538-76311792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6FB75-054B-460E-A894-D4A99836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905A-915A-4305-AD95-231F30542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DDCDF-9780-44BD-912A-4994F116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90F6C6-F123-45D8-A30C-E47E8E59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913C7-295E-4A4B-970B-1AE965A7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AB73F-1D41-44F4-8FED-CF4C2020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EA70A-FAA5-492C-9603-BE801D45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6D244-4C0E-4747-B7E7-8A27FABF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C578F-B6F3-42BB-96C2-2D8E1528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3233D-3F86-487E-A911-FE00B7648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E29A4-76BC-47C2-B577-E2922FC5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E549-C499-420E-BA23-61C54F340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B9DA-7852-464A-A6F1-BEF651CD0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8D7F-C697-4E3C-8C38-27746A5C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7545-2DBE-4153-9CA7-C3D53F2B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456C-F1BE-41CA-98DE-E7E2CA15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58C35-EC49-4C38-A471-AB36FBDDC34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4B1C-03B3-415A-89E1-8EC5E7D7103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e libre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e libre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e libre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e lib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e libre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e libr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9F08-B01B-46C0-9705-C09DCAE0DC43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ogner et arrondir un rectangle à un seul coin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angle rect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e libre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e libre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92FB-CE0F-481C-9B62-2CF07714D1CF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1988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bf5f9"/>
                </a:solidFill>
                <a:latin typeface="Calibri"/>
              </a:rPr>
              <a:t>International Conference on Financing Regional Agricultural Policy in West Africa (ECOWAP/CAADP)</a:t>
            </a:r>
            <a:br>
              <a:rPr sz="3200"/>
            </a:br>
            <a:r>
              <a:rPr b="0" lang="en-US" sz="3200" spc="-1" strike="noStrike">
                <a:solidFill>
                  <a:srgbClr val="dbf5f9"/>
                </a:solidFill>
                <a:latin typeface="Calibri"/>
              </a:rPr>
              <a:t>Abuja – November 11 &amp; 12, 2009</a:t>
            </a:r>
            <a:endParaRPr b="0" lang="en-US" sz="32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16000" y="37890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Regional Partnership Compact for th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implementation of ECOWAP/CAADP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onstantia"/>
              </a:rPr>
              <a:t>Mr. Jonas Hemou –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Constantia"/>
              </a:rPr>
              <a:t>Director of Foreign Relations</a:t>
            </a:r>
            <a:r>
              <a:rPr b="0" lang="en-US" sz="3400" spc="-1" strike="noStrike">
                <a:solidFill>
                  <a:srgbClr val="000066"/>
                </a:solidFill>
                <a:latin typeface="Constantia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logo3"/>
          <p:cNvPicPr/>
          <p:nvPr/>
        </p:nvPicPr>
        <p:blipFill>
          <a:blip r:embed="rId2"/>
          <a:stretch/>
        </p:blipFill>
        <p:spPr>
          <a:xfrm>
            <a:off x="0" y="0"/>
            <a:ext cx="164304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The Regional Partnership Compac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1125360"/>
            <a:ext cx="86979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79992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3. Five commitments of the technical and financial partn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35160" indent="-3758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align, harmonize and coordinate all of their support with ECOWAP/CAADP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35160" indent="-3758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35160" indent="-3758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promote the coherence and effectiveness of regional ai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35160" indent="-3758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35160" indent="-3758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increase their support for the implementation of ECOWAP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35160" indent="-3758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35160" indent="-3758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improve the predictability of their aid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35160" indent="-3758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35160" indent="-3758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adopt the ECOWAP monitoring/evaluation mechanism to evaluate their suppor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235160" indent="-375840">
              <a:spcBef>
                <a:spcPts val="2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2" marL="1235160" indent="-375840">
              <a:spcBef>
                <a:spcPts val="2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The Regional Partnership Compac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-360" y="1125360"/>
            <a:ext cx="86979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104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4. The commitments of the professional organizations in the agricultural sector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ofessional associations and organizations: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spcBef>
                <a:spcPts val="2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develop agricultural production and promote the value chai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facilitate building upon and sharing of experienc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participate actively in the dialogue process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participate in mobilizing financial resourc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contribute to monitoring/evalu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rivate sector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intensify their commitment to financing agricultur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contribute to improving the quality of food commodities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o participate actively in the dialogue processes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spcBef>
                <a:spcPts val="451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3" marL="1752480" indent="-380880">
              <a:spcBef>
                <a:spcPts val="2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2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The Regional Partnership Compact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nstantia"/>
              </a:rPr>
              <a:t>5. The commitments of the African Union / NEPAD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provide ECOWAS with political, financial and technical support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785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ank you for your kind attenti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3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The Regional Partnership Compact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dd9"/>
                </a:solidFill>
                <a:latin typeface="Constantia"/>
              </a:rPr>
              <a:t>Overview of the presentatio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The spirit of the Regional Compa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2. </a:t>
            </a: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9dd9"/>
                </a:solidFill>
                <a:latin typeface="Constantia"/>
              </a:rPr>
              <a:t>The commitments of the stakeholder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dd9"/>
                </a:solidFill>
                <a:latin typeface="Constantia"/>
              </a:rPr>
              <a:t>Joint commitment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dd9"/>
                </a:solidFill>
                <a:latin typeface="Constantia"/>
              </a:rPr>
              <a:t>Commitments of the ECOWA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dd9"/>
                </a:solidFill>
                <a:latin typeface="Constantia"/>
              </a:rPr>
              <a:t>Commitments of the partner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9dd9"/>
                </a:solidFill>
                <a:latin typeface="Constantia"/>
              </a:rPr>
              <a:t>Commitments of the other stakeholde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0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The Regional Partnership Compac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8360" y="1916280"/>
            <a:ext cx="8229600" cy="43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1040" indent="-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dd9"/>
                </a:solidFill>
                <a:latin typeface="Constantia"/>
              </a:rPr>
              <a:t>The spirit of the Regional Compac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3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dd9"/>
                </a:solidFill>
                <a:latin typeface="Calibri"/>
              </a:rPr>
              <a:t>The spirit of the Regional Compact </a:t>
            </a:r>
            <a:br>
              <a:rPr sz="39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4000" y="1196640"/>
            <a:ext cx="8351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842400" indent="-45252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t expresses the desire of the stakeholders to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uphold the numerous commitments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undertaken in the international or regional forums concern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42400" indent="-452520">
              <a:spcBef>
                <a:spcPts val="34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301040" indent="-395640">
              <a:spcBef>
                <a:spcPts val="524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e priority given to agriculture and food security (“10% Maputo”; G8 Aquilla, G20 Pittsburgh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01040" indent="-395640">
              <a:spcBef>
                <a:spcPts val="326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2" marL="1301040" indent="-395640">
              <a:spcBef>
                <a:spcPts val="524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e Millennium Development Goal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01040" indent="-395640">
              <a:spcBef>
                <a:spcPts val="374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2" marL="1301040" indent="-395640">
              <a:spcBef>
                <a:spcPts val="524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e need to rely on public policies negotiated with the actor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01040" indent="-395640">
              <a:spcBef>
                <a:spcPts val="374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lvl="2" marL="1301040" indent="-395640">
              <a:spcBef>
                <a:spcPts val="524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he effectiveness of aid (cf. Paris Declaration, Accra Action Plan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01040" indent="-395640">
              <a:spcBef>
                <a:spcPts val="524"/>
              </a:spcBef>
              <a:buClr>
                <a:srgbClr val="009dd9"/>
              </a:buClr>
              <a:buSzPct val="70000"/>
              <a:buFont typeface="Constanti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842400" indent="-45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6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9dd9"/>
                </a:solidFill>
                <a:latin typeface="Calibri"/>
              </a:rPr>
              <a:t>The spirit of the Regional Compact</a:t>
            </a:r>
            <a:br>
              <a:rPr sz="4300"/>
            </a:br>
            <a:endParaRPr b="0" lang="en-US" sz="43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84360" y="1197000"/>
            <a:ext cx="8229600" cy="47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2" marL="1182600" indent="-35964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765720" indent="-411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2. It reflects a desire to </a:t>
            </a: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fundamentally transform the terms of cooperation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between the actor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65720" indent="-411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mpliance with the policies and strategies of the countries and regional economic communities (sovereignty)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3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Leadership exercised by the governments and regional institution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3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Alignment of aid with these policies and program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2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Coordination under the aegis of the states and REC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2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Pooling of resources to serve the national and regional priorities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182600" indent="-3596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The Regional Partnership Compac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104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dd9"/>
                </a:solidFill>
                <a:latin typeface="Constantia"/>
              </a:rPr>
              <a:t>2. </a:t>
            </a:r>
            <a:r>
              <a:rPr b="0" lang="en-US" sz="3200" spc="-1" strike="noStrike">
                <a:solidFill>
                  <a:srgbClr val="009dd9"/>
                </a:solidFill>
                <a:latin typeface="Constantia"/>
              </a:rPr>
              <a:t>	</a:t>
            </a:r>
            <a:r>
              <a:rPr b="0" lang="en-US" sz="3200" spc="-1" strike="noStrike">
                <a:solidFill>
                  <a:srgbClr val="009dd9"/>
                </a:solidFill>
                <a:latin typeface="Constantia"/>
              </a:rPr>
              <a:t>The commitments of the stakeholders: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9dd9"/>
                </a:solidFill>
                <a:latin typeface="Constantia"/>
              </a:rPr>
              <a:t>Joint </a:t>
            </a: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commitments</a:t>
            </a:r>
            <a:r>
              <a:rPr b="0" lang="en-US" sz="2900" spc="-1" strike="noStrike">
                <a:solidFill>
                  <a:srgbClr val="009dd9"/>
                </a:solidFill>
                <a:latin typeface="Constanti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7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dd9"/>
                </a:solidFill>
                <a:latin typeface="Constantia"/>
              </a:rPr>
              <a:t>Commitments of ECOWA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7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dd9"/>
                </a:solidFill>
                <a:latin typeface="Constantia"/>
              </a:rPr>
              <a:t>Commitments </a:t>
            </a:r>
            <a:r>
              <a:rPr b="0" lang="en-US" sz="2900" spc="-1" strike="noStrike">
                <a:solidFill>
                  <a:srgbClr val="009dd9"/>
                </a:solidFill>
                <a:latin typeface="Constantia"/>
              </a:rPr>
              <a:t>of the partners</a:t>
            </a:r>
            <a:endParaRPr b="0" lang="en-US" sz="29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79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dd9"/>
                </a:solidFill>
                <a:latin typeface="Constantia"/>
              </a:rPr>
              <a:t>Commitments of the other stakeholders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2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The Regional Partnership Compac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68360" y="1483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79128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1. Four joint commitments of ECOWAS – TFP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1280" indent="-425160">
              <a:spcBef>
                <a:spcPts val="34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establish an aid coordination and management mechanism within the ECOWAP/CAADP institutional and financial framewor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strengthen the capacities of all the stakeholder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respect the principle of subsidiarit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3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define and establish a monitoring/evaluation mechanis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The Regional Partnership Compac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1125360"/>
            <a:ext cx="86979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79128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1280" indent="-425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2. Nine commitments of ECOW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1280" indent="-425160">
              <a:spcBef>
                <a:spcPts val="34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mobilize the resources essential to the implementation of the mobilizing pro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pursue or implement the sector-based reforms / ECOWAP objecti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3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develop and adopt action plans for the mobilizing progra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400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2" marL="1222200" indent="-371880">
              <a:spcBef>
                <a:spcPts val="601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o ensure compliance with the foci of ECOWAP/CAADP by public and private investors who have not signed the compa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alibri"/>
              </a:rPr>
              <a:t>The Regional Partnership Compact 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-360" y="1125360"/>
            <a:ext cx="86979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5104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nstantia"/>
              </a:rPr>
              <a:t>2. Nine commitments of ECOWAS (continued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349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implement the adopted institutional framework and financial mechanism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3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mobilize the financial resources in support of the member states / NAIPs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32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co-finance the mobilizing programs using the Commission’s own resources: minimum 15%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2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increase the Community resources targeting agriculture and food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27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lvl="2" marL="1314360" indent="-39996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nstantia"/>
              </a:rPr>
              <a:t>To ensure the transparency of the resources mobilized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10" descr="logo3"/>
          <p:cNvPicPr/>
          <p:nvPr/>
        </p:nvPicPr>
        <p:blipFill>
          <a:blip r:embed="rId2"/>
          <a:stretch/>
        </p:blipFill>
        <p:spPr>
          <a:xfrm>
            <a:off x="0" y="0"/>
            <a:ext cx="100008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09:41:14Z</dcterms:created>
  <dc:creator>Utilisateur Windows</dc:creator>
  <dc:description/>
  <dc:language>en-US</dc:language>
  <cp:lastModifiedBy>Roger Blein</cp:lastModifiedBy>
  <dcterms:modified xsi:type="dcterms:W3CDTF">2009-11-11T07:39:11Z</dcterms:modified>
  <cp:revision>45</cp:revision>
  <dc:subject/>
  <dc:title>Les nouvelles orientations d’ECOWAP à la lumière de la conjoncture internationale</dc:title>
</cp:coreProperties>
</file>