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17D-134B-4303-9AB7-B238711D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FB0-7535-45A5-A259-EA728E6D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C6E-ED81-4E64-BD7D-646EE4C0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726-3B10-4F8A-B31B-6F1034C8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1B42-39AC-4084-A8E4-817130AB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D9E5-8D33-4633-AA9F-212D6B64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0861-CA58-47CD-AB34-2088EF9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CF77-0473-4F55-9EBD-92B433D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83EA-2A36-421E-A84A-B7163A9B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D1EC-CE92-4E10-A154-74A965FA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1E0-1AE0-4A7E-A481-9B2A0CB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084-6ACF-47FA-99BC-5D795B0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6715-3374-417F-89ED-AB5333B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9E3-CCBD-4B1C-9B16-263012DF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39D-1CDD-4C41-9954-D3DCE621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5E4-F2C7-4912-93EF-177D164D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5E3-10B9-4808-9119-3BDFCC40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BF02-6D5D-4C69-BD28-0325AC77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7604-C8B6-486E-AE7B-95969BD2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31DB-E362-4704-B54D-063CA177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8DC4-E1B4-464D-AC65-22C3A7BF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403E-BCB1-442E-AFFA-97CC89C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FEE-E73F-4429-852F-86363FA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00E4-CC04-4563-AF6D-1D2C42AD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4F72-3F4F-43EA-B98D-F6CB147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C4AB-03B7-4F4E-8439-EDE4696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D6FC-DCA9-4AE9-92BB-DC98AC4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C2F6-7E8F-4431-A122-6667471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4960-AA5F-43DC-B94E-25FB2CD8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7E66-5357-4C84-B209-0BA4251B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4C73-2969-4D11-8FC5-D49177F7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87A9-CBAD-42F9-81EF-F1406FAE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F30C-5EE7-4DF8-BBAD-1C6BDCC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5CD-856F-423A-8762-3FC5490D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8EB1-0A40-4DA8-93CB-1F82154A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B55C-A544-499D-B739-C5FD999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7002-5E69-461F-83A8-949C10DA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4436-2F33-4755-AEFD-D909044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167D-CB88-464B-904D-6576705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BEE5-C4BA-4498-86D3-753F4713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D17B-C5B7-4ABC-8A72-4F475574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EE32-B700-4716-B5DB-0FB2E39A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210E-8F16-413D-BABB-5563A986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C53-F2C3-4592-9030-3CCB41A4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DD1-FEF5-401F-B748-03E4FFB6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341-D667-420E-8FC5-3E2D255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EA8-442F-4631-8358-D9A346EF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67C-FAA4-497C-81F6-FE52C0A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274-2ABC-4786-8DE3-F43BBBE4F9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2520-8512-485B-9467-A9206798A03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169-B791-4EC5-8B74-EFD74DFEB2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705-84BF-4E31-BF30-5A6C91C70D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International Conference on Financing Regional Agricultural Policy in West Africa (ECOWAP/CAADP)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Abuja – November 11-12, 2009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3789000"/>
            <a:ext cx="8877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The mobilizing programs, institutional framework and financial mechanism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nstantia"/>
              </a:rPr>
              <a:t>Rui Silva – Director of Agricultu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nstantia"/>
              </a:rPr>
              <a:t>Ibrahima Gueye – Director of Finan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components of program 1 (cont’d</a:t>
            </a:r>
            <a:r>
              <a:rPr b="0" lang="fr-FR" sz="36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67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Component 2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Promotion of the livestock, meat and milk value cha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port for the adaptation and security of the different livestock production sys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 of the trans-national mobility of herds and prevention / regulation of conflicts concerning the use of resour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ucturing and organization of the value cha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motion of processing activities and adding value to produ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gram 2: Promotion of an overall environment conducive to regional agricultural develop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67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o contribute to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business, physical, informational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institutiona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environmen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ducive to a massive transformation of the production systems and value chains in West Afr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gram consists of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4 compon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286920"/>
            <a:ext cx="7740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gram 2 (continued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1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Improvement of the business environment of the agri-food value chai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motion of regional trade of food produc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velopment of trade infrastruc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aptation and implementation of new trade mechanisms at the borders of the ECOWAS are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2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Adaptation to climate variability and change and integrated management of shared resour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engthening regional research on climate change and its impacts on production system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engthening the capacities for the integrated management of shared water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86920"/>
            <a:ext cx="7740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gram 2 (continued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3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 Operationalization of an information and decision support syste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of the environmental and macroeconomic contex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of agricultural polic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of the production systems and the food and nutritional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nitoring of markets and trade opportun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4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 Institutional and human capacity build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gional support for capacity building initiati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engthening of the coherence of regional polic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rovement of ECOWAP/CAADP management capac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gram 3: Reduction of food vulnerability and promotion of sustainable access to foo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bjectiv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contribute to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nsuring that the food needs of the vulnerable populations are cover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ducing the structural vulnerabilit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the populations in both rural and urban area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program focuses o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5 compon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17360" y="360000"/>
            <a:ext cx="77403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gram 3 (continued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1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Definition of a regional approach to safety ne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for vulnerable populations aimed at improving access to food for the poorest individuals in both urban and rural are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2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 Adaptation of the system for monitoring vulnerability and preventing food cris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aptation of the crisis-prevention and management system to the changing context and factors affecting the risk of food probl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velopment of the decision support capacity for crisis prevention at the regional level and the targeting of interven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engthening of the dialogue and coordination  tools concerning the food and nutritional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3320" y="286920"/>
            <a:ext cx="7740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ogram 3 (continued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188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3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 Promotion of safety nets for vulnerable urban popula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Incentives and support for interventions by member sta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4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 Implementation of safety nets targeting poor or vulnerable populations in rural area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Incentives and support for interventions by member sta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nstantia"/>
              </a:rPr>
              <a:t>Component 5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: Promotion of regional food security instrumen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ysical or financial regional security stoc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motion of insurance sy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nstantia"/>
              </a:rPr>
              <a:t>The financing need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financing nee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Overall nee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900 million dollars over 5 years, of whi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0% for program no.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% for program no.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% for program no.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ibution of ECOW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internal resources): 150 million dollars, i.e. self-financing of 16.7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Other potential sour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ember States’ budget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national financial a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financing by the private sec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nstantia"/>
              </a:rPr>
              <a:t>The institutional implementation framework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verview of the presentation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Why mobilizing and federating program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A brief presentation of the three progra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The financing need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The institutional implementation frame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The financial mechanis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institutional implementation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rame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mplementation framework is based o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 elem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trengthening of the capacity for the political steer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ECOWAP/CAADP within the ECOWAS Commission’s Department of Agriculture, the Environment and Water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lementation of an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ter-departmental Committee for Agriculture and F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ringing together the different departments concerned: trade and customs, taxation, infrastructure, macroeconomics, humanitarian affair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institutional implementation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ramework (continued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mplementation of an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dvisory Committee for Agriculture and F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ringing together the member states, the Parliament and the different groups of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reation of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gional Technical Agency for Agriculture and Foo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endowed with administrative and financial management autonomy and responsible for the implementation of the mobilizing programs by establishing contracts with the relevant 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nstantia"/>
              </a:rPr>
              <a:t>The financial mechanis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9837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financial mechanism: the Regional Fund for Agriculture and Food (ECOWADF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bjective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channel the majority of the sources of financ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regional actions concerning the agricultural sector, with a view to ensuring the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rational and coordinated use of internal and external resourc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order to guarantee that the objectives of ECOWAP/CAADP are achiev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inciples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ear institutional framewor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ear definition of the fields of interven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d governance, includ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ansparency and traceabili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lexibility to satisfy the needs to adapt the program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agement and evaluation focused on resul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commitment of all the stakeholders to the mechanis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financial mechanism (continued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Status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Fund hosted at the EBI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aged according to international banking r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meshed with the international trust fund and the other multilateral innovations being develop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ools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oans, guarantee funds and subsid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otential dedicated account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pport fund for the mobilizing progr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pacity-building fund for the different 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pport fund for regional or multi-country initiati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od security fu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ank you for your kind atten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nstantia"/>
              </a:rPr>
              <a:t>Why mobilizing and federating program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Why mobilizing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nd federating programs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507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Ps correspond to a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selection of strategic prioriti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tha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Are a response to the emergency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ulting  from the new international and regional economic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ocus on a limited number of key ques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are essential to stimulating and driving a decisive and massive transformation of the West African agricultural sector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Attempt to satisfy a feasibility criter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aking into accoun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human and institutional capacities available for their implement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financial budgets that can reasonably be mobilize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Why mobilizing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nd federating programs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developed with a view to obtaining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significant results in the short and medium term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– by 2014 – for this first generation of progra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ederating natur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f the programs can be observed on three level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fede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national and regional priorities in a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mmon vi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fede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d intermes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investme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pproach and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ublic policy instrumen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roach (regulations, incentives etc.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federate the approach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veloped in the different RAIP sub-programs around common key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nstantia"/>
              </a:rPr>
              <a:t>A brief presentation of the three program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 brief presentation of the three progra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gram 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romotion of strategic products for food sovereign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gram 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Promotion of an overall environment conducive to regional agricultural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gram 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Reduction of food vulnerability and promotion of sustainable access to foo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071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gram 1: Promotion of strategic products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for food sovereign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bject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o accompany the regional initiatives and strategies devoted to th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velopment of the agri-food value chai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with a view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ing the incomes of the rural population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ucing the food dependence of the member sta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izing the productio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iority foc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n products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a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ignificant production potenti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respond to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hanging dietary habi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populations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subject to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 high level of extra-regional impo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740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The components of program 1 (cont’d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onent 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Promotion of the rice, maize and cassava value cha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 for the modernization of family farms and the sustainable intensification of the production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ment of irrig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ucturing and organization of the value chai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ion of processing activities and adding value to produ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45:20Z</dcterms:created>
  <dc:creator>Utilisateur Windows</dc:creator>
  <dc:description/>
  <dc:language>en-US</dc:language>
  <cp:lastModifiedBy>Roger Blein</cp:lastModifiedBy>
  <dcterms:modified xsi:type="dcterms:W3CDTF">2009-11-11T07:54:26Z</dcterms:modified>
  <cp:revision>84</cp:revision>
  <dc:subject/>
  <dc:title>Présentation des objectifs et résultats attendus de la conférence</dc:title>
</cp:coreProperties>
</file>