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media/image13.wmf" ContentType="image/x-wmf"/>
  <Override PartName="/ppt/media/image11.wmf" ContentType="image/x-wmf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9B21-771C-44AC-9D0E-07C00F20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131A-39FF-4F79-BC4E-1E1428A5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907D-F60B-44A4-8BEA-5CC3729C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4AFE-A056-4C72-97D8-FCED8D69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B95F-AD3A-4F28-9B55-6AB2CFA5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63AE-DAD9-4134-81A2-050E5DFE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E7E9-6696-497B-BCDE-C5D363B1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AC7A-E344-4389-BA59-AC1D75E1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AF93-F1D1-4B65-9290-3F4A7B1A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BE89-2B40-4710-B19D-99E961C5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F8D1-7CAD-44A0-ADE5-F21E83F0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7196-B8E6-4726-BDA4-4F8AF547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5B60-7270-4A53-9E6C-3C272B03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F879-760D-4823-8CBC-47206587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3614-BA41-40DB-8B20-93BA137E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C7EB-92E7-485A-A0E3-535949F3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9169-2AA4-4701-AD6D-4C702BBF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206CF-955D-45DE-BAEB-2E6FBA02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78BAC-B537-4BEB-8964-44CB0365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678A3-EE2F-4868-8D1A-43E5CCD4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5B0FD-EB2E-4C1E-896C-BC2D67D8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8FD81-4078-4EE1-A7C9-92FD7BAA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DDD2-3C73-4C6F-90D6-B061871C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B2A88-2BAD-4C1F-9FB1-AC8A1889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8EC39-0D3F-4A73-98D0-E32C71EC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9ADCC-203E-451B-8A61-46B03E18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ABDEE-C901-4178-9E5E-E5C76129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71CD8-BB17-466D-812A-A8419BB1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C5A91-A18B-4093-9775-8406FE5A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604F4-BB1C-4EA4-A149-6982906F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A92C3-8F6B-4CD8-A275-12488E59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5CA2F-8103-4986-B66C-B0136D3D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10801-DAC0-4F35-82F1-9464A4EF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09EF-BA37-45C4-B5D7-0799F30C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E726E-D773-4986-AE2A-3E880755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2EC11-E541-4A38-93A4-C65914E9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93417-4A87-4539-A323-3395E040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4E073-955B-4C3A-B2DF-781358D6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E66BC-FB38-4FE8-B19B-F1015CA5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99C17-A313-4E63-A79A-DA66869F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FE17C-ED71-49EA-9A42-6854B5B5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DECAD-6DD3-4182-8490-D159DEF2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7688C-DC2D-4015-BADF-3E59A3BB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6518-64AD-4D51-8A58-92E789E2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94A3-13B3-436A-AFE6-83238088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6C62-246F-4FBD-95E2-C3298FFB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F91D-1B4C-449D-9F38-8C9E7BB8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F167-16A2-4144-B3BC-5FF976F5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8911-C872-426D-8899-49C8A6DBA81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Picture 4" descr="logo3"/>
          <p:cNvPicPr/>
          <p:nvPr/>
        </p:nvPicPr>
        <p:blipFill>
          <a:blip r:embed="rId5"/>
          <a:stretch/>
        </p:blipFill>
        <p:spPr>
          <a:xfrm>
            <a:off x="25560" y="25560"/>
            <a:ext cx="1071360" cy="108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58A9-D7F8-45F7-A970-72D8413B0BA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5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8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B839-B675-48F6-BAAB-9635F39E9A9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ogner et arrondir un rectangle à un seul coin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riangle rect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rme lib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rme lib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1002-80D8-447E-8DAE-4096392703F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19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Calibri"/>
              </a:rPr>
              <a:t>International Conference on Financing Regional Agricultural Policy in West Africa (ECOWAP/CAADP)</a:t>
            </a:r>
            <a:br>
              <a:rPr sz="3200"/>
            </a:br>
            <a:r>
              <a:rPr b="0" lang="en-US" sz="3200" spc="-1" strike="noStrike">
                <a:solidFill>
                  <a:srgbClr val="dbf5f9"/>
                </a:solidFill>
                <a:latin typeface="Calibri"/>
              </a:rPr>
              <a:t>Abuja – November 11-12, 2009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3800" y="3789000"/>
            <a:ext cx="88772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66"/>
                </a:solidFill>
                <a:latin typeface="Constantia"/>
              </a:rPr>
              <a:t>Implementation of ECOWAP / CAADP : National Agricultural Investment Programs (NAIPs)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onstantia"/>
              </a:rPr>
              <a:t>	</a:t>
            </a:r>
            <a:r>
              <a:rPr b="0" lang="fr-FR" sz="2800" spc="-1" strike="noStrike">
                <a:solidFill>
                  <a:srgbClr val="000066"/>
                </a:solidFill>
                <a:latin typeface="Constantia"/>
              </a:rPr>
              <a:t>Yamar Mbodj – Advisor, Agricultur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8" name="Picture 4" descr="logo3"/>
          <p:cNvPicPr/>
          <p:nvPr/>
        </p:nvPicPr>
        <p:blipFill>
          <a:blip r:embed="rId2"/>
          <a:stretch/>
        </p:blipFill>
        <p:spPr>
          <a:xfrm>
            <a:off x="0" y="0"/>
            <a:ext cx="164304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4617b"/>
                </a:solidFill>
                <a:latin typeface="Calibri"/>
              </a:rPr>
              <a:t>Priority investment areas of the NAIP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3" name="Espace réservé du texte 29"/>
          <p:cNvGraphicFramePr/>
          <p:nvPr/>
        </p:nvGraphicFramePr>
        <p:xfrm>
          <a:off x="536400" y="1442880"/>
          <a:ext cx="7567920" cy="5029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4" name="Espace réservé du texte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6400" y="1442880"/>
                    <a:ext cx="75679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4617b"/>
                </a:solidFill>
                <a:latin typeface="Calibri"/>
              </a:rPr>
              <a:t>Priority investment areas of the NAIP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6" name="Espace réservé du texte 29"/>
          <p:cNvGraphicFramePr/>
          <p:nvPr/>
        </p:nvGraphicFramePr>
        <p:xfrm>
          <a:off x="252360" y="1422360"/>
          <a:ext cx="8481960" cy="4957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7" name="Espace réservé du texte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360" y="1422360"/>
                    <a:ext cx="848196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4617b"/>
                </a:solidFill>
                <a:latin typeface="Calibri"/>
              </a:rPr>
              <a:t>Priority investment areas of the NAIPs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9" name="Espace réservé du texte 29"/>
          <p:cNvGraphicFramePr/>
          <p:nvPr/>
        </p:nvGraphicFramePr>
        <p:xfrm>
          <a:off x="757080" y="1325520"/>
          <a:ext cx="7613640" cy="5545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0" name="Espace réservé du texte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080" y="1325520"/>
                    <a:ext cx="761364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4617b"/>
                </a:solidFill>
                <a:latin typeface="Calibri"/>
              </a:rPr>
              <a:t>Priority investment areas of the NAIPs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Espace réservé du texte 29"/>
          <p:cNvGraphicFramePr/>
          <p:nvPr/>
        </p:nvGraphicFramePr>
        <p:xfrm>
          <a:off x="614520" y="1339920"/>
          <a:ext cx="7567560" cy="5329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3" name="Espace réservé du texte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520" y="1339920"/>
                    <a:ext cx="756756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04617b"/>
                </a:solidFill>
                <a:latin typeface="Calibri"/>
              </a:rPr>
              <a:t>Monitoring and evaluation system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nstantia"/>
              </a:rPr>
              <a:t>Guiding principles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idence-based development, implementation, and monitoring of the programs guided by concrete research resul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lusive process of review and dialogue within the countries, a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rengthening of coordination and advocacy at the regional and continental leve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4617b"/>
                </a:solidFill>
                <a:latin typeface="Calibri"/>
              </a:rPr>
              <a:t>Monitoring and evaluation system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341000"/>
            <a:ext cx="84582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Goals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ordinate a collaborative effort within a network in order to mobilize the available expertis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enerate the knowledge necessary to support the implementation of the agricultural development program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ssure the storage, retrieval and dissemination of this knowledg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upport the monitoring and evaluation system as well as peer review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03280" y="260280"/>
            <a:ext cx="6778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04617b"/>
                </a:solidFill>
                <a:latin typeface="Calibri"/>
              </a:rPr>
              <a:t>Monitoring and evaluation system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1245960"/>
            <a:ext cx="84582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Constantia"/>
              </a:rPr>
              <a:t>Structure of the SAKSS: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825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 analytic node made up of researchers and analys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mechanism for the review, dialogue and advocacy coordinated by a high-level civil servant (for example, a National Director) who brings together all the stakehold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nstantia"/>
              </a:rPr>
              <a:t>Thank you for your kind attention !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560" y="124920"/>
            <a:ext cx="748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Overview of the presentation</a:t>
            </a:r>
            <a:r>
              <a:rPr b="0" lang="fr-FR" sz="4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9280" y="1510920"/>
            <a:ext cx="8604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nstantia"/>
              </a:rPr>
              <a:t>Process of developing the plan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nstantia"/>
              </a:rPr>
              <a:t>Contribution of the agricultural sector to poverty reduc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nstantia"/>
              </a:rPr>
              <a:t>Past performance and outlook for the futur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nstantia"/>
              </a:rPr>
              <a:t>Priority investment areas of the NAIP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nstantia"/>
              </a:rPr>
              <a:t>Monitoring and evaluation syste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rocess of developing the pla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286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NAIPs: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essential component for the implementation of ECOWAP/CAAD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Objectives of the NAIPs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chieve an agricultural growth rate of 6%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ocate 10% of the budg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mprove governance to reach the MDG-1 by 201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224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Step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xamine the recent growth performance of the agricultural sector as well as the future outlook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mpare these results with the objectives of  ECOWAP/CAADP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valuate the conditions needed to reach these objectives and analyze their future implications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stimate the long-term financing need for agricultural growth and to meet the MDG-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old national round-tables and sign national Compac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01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4617b"/>
                </a:solidFill>
                <a:latin typeface="Calibri"/>
              </a:rPr>
              <a:t>Contribution of the agricultural </a:t>
            </a:r>
            <a:br>
              <a:rPr sz="3800"/>
            </a:br>
            <a:r>
              <a:rPr b="0" lang="en-US" sz="3800" spc="-1" strike="noStrike">
                <a:solidFill>
                  <a:srgbClr val="04617b"/>
                </a:solidFill>
                <a:latin typeface="Calibri"/>
              </a:rPr>
              <a:t>sector to poverty reduction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541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griculture will remain the main source of growth and poverty reduction over the next 10-15 year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ts contribution to poverty reduction is stronger than that of the non-agricultural secto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685800" y="3259080"/>
            <a:ext cx="809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ibution of agricultural growth to poverty reduction at the national and rural levels (%)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2"/>
          <a:stretch/>
        </p:blipFill>
        <p:spPr>
          <a:xfrm>
            <a:off x="1609560" y="3767040"/>
            <a:ext cx="5934240" cy="29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4617b"/>
                </a:solidFill>
                <a:latin typeface="Calibri"/>
              </a:rPr>
              <a:t>Contribution of the agricultural </a:t>
            </a:r>
            <a:br>
              <a:rPr sz="3800"/>
            </a:br>
            <a:r>
              <a:rPr b="0" lang="en-US" sz="3800" spc="-1" strike="noStrike">
                <a:solidFill>
                  <a:srgbClr val="04617b"/>
                </a:solidFill>
                <a:latin typeface="Calibri"/>
              </a:rPr>
              <a:t>sector to poverty reduction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220500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gricultural subsectors do not all contribute in the same way to growth and poverty redu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staple food subsector makes the greatest contribution to agricultural incomes and poverty redu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ivestock production also emerges as a strategic intervention area in the Sahelian countrie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2560" y="1519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ast performance and outlook for the futur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3520" y="172872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tween 1999 and 2005, the growth of the agricultural sector reached 5% per year, a rate much higher than the African average of 3.3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22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wever, the average poverty rate in the ECOWAS region (50.2%) was higher than the African average (45.6%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le positive, the current agricultural growth rate (4.6%) remains below the 6% growth rate targeted by CAAD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3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addition, the current performance of the agricultural sector is not sufficient to reach the MDG-1 by 2015 except for Ghana, Cape Verde and Seneg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87280" y="151920"/>
            <a:ext cx="7575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ast performance and outlook for the futur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Chart 4" descr=""/>
          <p:cNvPicPr/>
          <p:nvPr/>
        </p:nvPicPr>
        <p:blipFill>
          <a:blip r:embed="rId2"/>
          <a:srcRect l="-2169" t="-3491" r="-3800" b="-6802"/>
          <a:stretch/>
        </p:blipFill>
        <p:spPr>
          <a:xfrm>
            <a:off x="1066680" y="2362320"/>
            <a:ext cx="7239240" cy="3962160"/>
          </a:xfrm>
          <a:prstGeom prst="rect">
            <a:avLst/>
          </a:prstGeom>
          <a:ln w="0">
            <a:noFill/>
          </a:ln>
        </p:spPr>
      </p:pic>
      <p:sp>
        <p:nvSpPr>
          <p:cNvPr id="213" name="TextBox 4"/>
          <p:cNvSpPr/>
          <p:nvPr/>
        </p:nvSpPr>
        <p:spPr>
          <a:xfrm>
            <a:off x="1219320" y="1492200"/>
            <a:ext cx="703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pected reduction in the poverty rate from now to 2015 under current trends 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ast performance and outlook </a:t>
            </a: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for the future: financin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38240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Agricultural expenditures represent on average 10.7% of total budgetary expenses, ranging from 2.8% in Sierra Leone to 22.3% in Niger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In most countries,  60 to 80 % of the total agricultural budget is financed with external resourc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o reach the CAADP target, most countries will need to nearly double the current share of agriculture in their total budgetary expenditur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Chart 8" descr=""/>
          <p:cNvPicPr/>
          <p:nvPr/>
        </p:nvPicPr>
        <p:blipFill>
          <a:blip r:embed="rId2"/>
          <a:srcRect l="-2705" t="-7307" r="-2522" b="-6311"/>
          <a:stretch/>
        </p:blipFill>
        <p:spPr>
          <a:xfrm>
            <a:off x="914400" y="3367080"/>
            <a:ext cx="6858000" cy="3505320"/>
          </a:xfrm>
          <a:prstGeom prst="rect">
            <a:avLst/>
          </a:prstGeom>
          <a:ln w="0">
            <a:noFill/>
          </a:ln>
        </p:spPr>
      </p:pic>
      <p:sp>
        <p:nvSpPr>
          <p:cNvPr id="217" name="TextBox 4"/>
          <p:cNvSpPr/>
          <p:nvPr/>
        </p:nvSpPr>
        <p:spPr>
          <a:xfrm>
            <a:off x="1705320" y="3149640"/>
            <a:ext cx="68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hare of agricultural expenditures in total budgetary expenditures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1519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ast performance and outlook for the futur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Between now and 2015, the current agricultural growth rate of 4.6% should reach 6.5% with the implementation of the national strategie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However, countries such as Togo, Burkina Faso, the Gambia, Senegal, Guinea and Liberia will continue to have performance below the 6% rate targeted by CAADP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Reaching the CAADP target will bring about a substantial reduction in the poverty rate in all the countries in the region, but very few will be able to reach the MDG-1 by 201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Chart 7" descr=""/>
          <p:cNvPicPr/>
          <p:nvPr/>
        </p:nvPicPr>
        <p:blipFill>
          <a:blip r:embed="rId2"/>
          <a:srcRect l="-2305" t="-3206" r="-3771" b="-6197"/>
          <a:stretch/>
        </p:blipFill>
        <p:spPr>
          <a:xfrm>
            <a:off x="1066680" y="3657600"/>
            <a:ext cx="7162920" cy="3200400"/>
          </a:xfrm>
          <a:prstGeom prst="rect">
            <a:avLst/>
          </a:prstGeom>
          <a:ln w="0">
            <a:noFill/>
          </a:ln>
        </p:spPr>
      </p:pic>
      <p:sp>
        <p:nvSpPr>
          <p:cNvPr id="221" name="TextBox 4"/>
          <p:cNvSpPr/>
          <p:nvPr/>
        </p:nvSpPr>
        <p:spPr>
          <a:xfrm>
            <a:off x="608040" y="327024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pected poverty reduction by 2015 under the CAADP 6% target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5:45:20Z</dcterms:created>
  <dc:creator>Utilisateur Windows</dc:creator>
  <dc:description/>
  <dc:language>en-US</dc:language>
  <cp:lastModifiedBy>Roger Blein</cp:lastModifiedBy>
  <dcterms:modified xsi:type="dcterms:W3CDTF">2009-11-11T07:36:43Z</dcterms:modified>
  <cp:revision>102</cp:revision>
  <dc:subject/>
  <dc:title>Présentation des objectifs et résultats attendus de la conférence</dc:title>
</cp:coreProperties>
</file>