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051-49C9-401B-A92B-8ED0B75F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192-00A9-4563-9ADC-3C7D563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92B-0DA6-4DFA-852F-E081BE16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C41-7D70-48B2-8A85-56B0766A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D36-3266-4100-89A5-0D0B0EA5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FCBC-3404-4ABF-9801-BDDC1625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1367-3FF2-47F4-B284-2E9250FF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8BC7-B08D-4E75-9B11-9F9391E1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41D-67CD-4D9E-BCFE-D0B01079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982-74D2-4FE6-AF48-0BA970D2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9B6A-A620-455C-8B84-01875E1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CDB-13BC-437E-B2AA-7B098DFC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C67B-6BFC-4210-88BB-6D53EB68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9A2-ABD9-4C80-B419-1B14F715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3B5E-5DCF-4670-8877-3C464EF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EE82-9049-4F0B-A705-B9C7ECF3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6709-4737-4EE3-BB3A-C59CC7B8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DC91-5633-4A0F-B84F-801EB671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3856-6522-476D-AF1D-F5EAE09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43BE-EBC7-4B19-8B19-109DC34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6DA1-822C-42DC-9213-59FB202B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4E9D-593F-413D-8032-BBAA993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39A-1C93-46DC-BEEA-DDB64292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B58D-B3BC-4EC3-8244-D3B4EF79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E3CD-E82A-44A9-A664-204DAF6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63E9-16B0-439D-881E-F046DB75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BEFB-2EDF-432F-B671-C85E641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15FE-06A0-468A-B7B2-9E75E408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998E-CFEB-4947-B788-C154A6A5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DAA1-2CC1-4E2D-AC5B-26B6145D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1DCC-CF59-4F68-A624-FCD02ADA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1D6E-F584-4563-9AFC-239DB668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4C6A-92D7-4B64-82D9-6ED274B9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2B1-569C-4107-B459-3DE21C93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5358-CBA9-4C21-8F5B-D0578547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87890-9B4F-4945-A179-16EBF907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E1D2-11DF-4071-A340-42A06A33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2C7CF-C913-41AF-8E73-B496CC5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4F88-9A84-4372-9854-87B09A6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6D67-C11F-4417-9703-4EFD3E63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5E10-78BD-4AEB-B6AD-28611433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11D4-32F5-4028-8265-F8EE9BFB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8E61A-F69B-4BBF-A123-BFC0140D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6D9-5D6F-49BD-BD1D-48ADEF32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609-488D-4873-9345-FA4FFFFE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2A5-E73B-4318-BA57-487871F4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662-BF76-46C1-884A-95969B4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8B4-978B-4124-9BE8-4F10691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A4D-63C6-448D-A2BC-D1146B1CC8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3FB6-470A-4F5F-8A79-5EC64BA936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CAF2-1086-4749-AFA1-AB962EC6B9F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4DE-BECD-4847-8BBD-2ED4A36E58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Conférence internationale sur le financement de la politique agricole régionale de l’Afrique de l’Ouest (ECOWAP/PDDAA)</a:t>
            </a: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Abuja – 11 &amp; 12 novembre 2009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378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Constantia"/>
              </a:rPr>
              <a:t>Les principales orientations de l’ECOWAP/PDDAA  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Constantia"/>
              </a:rPr>
              <a:t>M. Le Commissaire Ousseini Salifou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643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’ECOWAP, face à la cris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limentaire de 2008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000" y="1628280"/>
            <a:ext cx="8856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s réactions à la hausse des prix du premier semestre 2008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Niveau national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ombreuses mesures d’urgences visant à atténuer les effets de la crise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ombreuses initiatives pour relancer à court terme la production vivrière: riz et maïs, notamme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Niveau régional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3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firmation de la </a:t>
            </a:r>
            <a:r>
              <a:rPr b="0" lang="en-US" sz="2200" spc="-1" strike="noStrike">
                <a:solidFill>
                  <a:srgbClr val="000099"/>
                </a:solidFill>
                <a:latin typeface="Constantia"/>
              </a:rPr>
              <a:t>pertinence de la politique agricole régional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de la CEDEAO et l’urgence d’apporter des réponses structurelles à la cri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nstantia"/>
              </a:rPr>
              <a:t>Mai 2008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: Conseil Extraordinaire des Ministres de l’Économie et des Finances, de l’Agriculture et du Commerce des 15 pays sur la hausse des prix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’ECOWAP, face à la cris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limentaire de 2008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onstantia"/>
              </a:rPr>
              <a:t>23 Juin 2008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 : Adoption par les Chefs d’État de </a:t>
            </a:r>
            <a:r>
              <a:rPr b="1" lang="fr-FR" sz="2000" spc="-1" strike="noStrike">
                <a:solidFill>
                  <a:srgbClr val="000000"/>
                </a:solidFill>
                <a:latin typeface="Constantia"/>
              </a:rPr>
              <a:t>« l’Offensive régionale pour la production alimentaire et contre la faim »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 en réponse à la crise alimentaire de 200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Trois axes conformes à l’Ecowa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onstantia"/>
              </a:rPr>
              <a:t>L’accroissement rapide et durable des productions alimentaires</a:t>
            </a:r>
            <a:r>
              <a:rPr b="0" lang="fr-FR" sz="2200" spc="-1" strike="noStrike">
                <a:solidFill>
                  <a:srgbClr val="000099"/>
                </a:solidFill>
                <a:latin typeface="Constantia"/>
              </a:rPr>
              <a:t>:</a:t>
            </a: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 réduire la dépendance à l’égard des importations, faire reculer la pauvreté en milieu rura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onstantia"/>
              </a:rPr>
              <a:t>La structuration des filières et la régulation des marchés</a:t>
            </a:r>
            <a:r>
              <a:rPr b="0" lang="fr-FR" sz="2200" spc="-1" strike="noStrike">
                <a:solidFill>
                  <a:srgbClr val="000099"/>
                </a:solidFill>
                <a:latin typeface="Constantia"/>
              </a:rPr>
              <a:t>:</a:t>
            </a: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 sécuriser les débouchés, stabiliser les marchés, adapter les produits à la demande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2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onstantia"/>
              </a:rPr>
              <a:t>La sécurité alimentaire et nutritionnelle des populations vulnérables</a:t>
            </a:r>
            <a:r>
              <a:rPr b="0" lang="fr-FR" sz="2200" spc="-1" strike="noStrike">
                <a:solidFill>
                  <a:srgbClr val="000099"/>
                </a:solidFill>
                <a:latin typeface="Constantia"/>
              </a:rPr>
              <a:t>:</a:t>
            </a: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 mise en place de filets de sécurité dans les zones rurales et en milieu urbai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La mise en œuvre de l’ECOWAP/PDDA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a mise en œuvre de l’ECOWAP/PDDAA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 mise en œuvre de l’ECOWAP/PDDAA repose su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u niveau n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les PNIA, qui représentent les visions, les ambitions, et les priorités des p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u niveau régional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s 3 programmes mobilisateurs et fédérateurs complètent les P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ennent en charge les dimensions régional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èrent les interdépendances entre les pay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ganisent leur coopération sur des questions commu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143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ci pour votre aimable atten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Les principales orientations de l’ECOWAP/PDDA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lan de la présent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’ECOWAP, une dynamique impulsée par le NEP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’ECOWAP, face aux défis agricoles et alimentaires ouest africa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’ECOWAP, face à la crise alimentaire de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mise en œuvre de l’ECOWAP/PDDA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L’ECOWAP, une dynamique impulsée par le NEPA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L’ECOWAP: une dynamique impulsée par le NEP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935000"/>
            <a:ext cx="843588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00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décision de Yamoussoukro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onne mandat à la CEDEAO de coordination et de suivi de la mise en œuvre du NEPAD en Afrique de l’Ouest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003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adoption à Maputo du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P.D.D.A.A.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 Programme Détaillé pour le Développement de l’Agriculture Africa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ngagement des Chefs d’Etat de consacrer au moins 10 % du budget des Etats au développement agrico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</a:rPr>
              <a:t>adoption à Accra de la politique agricole de la CEDEA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ar les Chefs d’Etats : l’ECOW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L’ECOWAP: une réponse aux défis agricoles et alimentaires ouest-africai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’ECOWAP: une réponse aux défis agricoles et alimentaires ouest-africai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ois défis majeur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18360" indent="-470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arvenir à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nourrir convenablement une population ouest africaine de plus en plus nombreu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et fortement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urbanisé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8360" indent="-470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8360" indent="-470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ssurer la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promotion d’un développement dura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au  double plan social et environnemental 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8360" indent="-470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8360" indent="-470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tribuer à la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construction d’un marché rég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performant et à  </a:t>
            </a:r>
            <a:r>
              <a:rPr b="0" lang="en-US" sz="2400" spc="-1" strike="noStrike">
                <a:solidFill>
                  <a:srgbClr val="000099"/>
                </a:solidFill>
                <a:latin typeface="Constantia"/>
                <a:ea typeface="Times New Roman"/>
              </a:rPr>
              <a:t>l’insertion dans le marché intern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de l’agriculture ouest africa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’ECOWAP: une réponse aux défis agricoles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t alimentaires ouest-africai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Une vision stratégi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« Une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agriculture moderne et durable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, fondée sur l’efficacité et l’efficience des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exploitations familiales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et la promotion des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entreprises agricoles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grâce à l’implication du secteur privé.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Productive et compétitive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sur le marché intra-communautaire et sur les marchés internationaux, elle doit permettre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d’assurer la sécurité alimentaire et de procurer des revenus décents à ses actifs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 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Un objectif ambitieux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« Contribuer de manière durable à la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satisfaction des besoins alimentaires de la populatio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, au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développement économique et social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et à la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réduction de la pauvreté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dans les États membres, ainsi que des </a:t>
            </a:r>
            <a:r>
              <a:rPr b="0" i="1" lang="en-US" sz="2000" spc="-1" strike="noStrike">
                <a:solidFill>
                  <a:srgbClr val="000099"/>
                </a:solidFill>
                <a:latin typeface="Constantia"/>
              </a:rPr>
              <a:t>inégalités entre les territoires, zones et pays 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’ECOWAP: une réponse aux défis agricoles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t alimentaires ouest-africai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Trois axes d’interven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’accroissement  de la productivité et de la compétitivité de l’agri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 mise en œuvre d’un régime commercial intracommunautai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’adaptation du régime commercial extérie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2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L’ECOWAP, face à la crise </a:t>
            </a:r>
            <a:br>
              <a:rPr sz="4400"/>
            </a:br>
            <a:r>
              <a:rPr b="1" lang="en-US" sz="4400" spc="-1" strike="noStrike">
                <a:solidFill>
                  <a:srgbClr val="0f6fc6"/>
                </a:solidFill>
                <a:latin typeface="Constantia"/>
              </a:rPr>
              <a:t>alimentaire de 2008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41:14Z</dcterms:created>
  <dc:creator>Utilisateur Windows</dc:creator>
  <dc:description/>
  <dc:language>en-US</dc:language>
  <cp:lastModifiedBy>Roger Blein</cp:lastModifiedBy>
  <dcterms:modified xsi:type="dcterms:W3CDTF">2009-11-10T16:44:41Z</dcterms:modified>
  <cp:revision>31</cp:revision>
  <dc:subject/>
  <dc:title>Les nouvelles orientations d’ECOWAP à la lumière de la conjoncture internationale</dc:title>
</cp:coreProperties>
</file>