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E99-76CE-43A1-BEF5-9E67AD91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F7E-581C-4C12-929B-7BE989A9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320-5EC4-4790-8508-EE4B2BA5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F5D-9905-4843-9557-981F23D6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2C21-C87A-4E22-829A-E43ECDD7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FDB8-C8E6-4E58-890C-3918302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A4DE-662B-4127-8F23-933C7FA4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F9B-6B97-411F-923C-9BB222D2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BDE-E6EF-49C3-A0EA-30F67AE2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9CC-6E19-47DA-B87F-B81EB62C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21E3-A12A-45F9-8255-80E8890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4FF-9430-4EBC-BAF4-4EA8A42C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3C84-E94E-4641-922D-7A6A619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C2D3-84BC-430D-8036-1FAE3B9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FC1F-2A08-4930-B9C8-08C84079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B95C-A095-4BAD-AFA8-E8D857AD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CAD4-91AB-4B56-9CA9-8E19CDB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4037-7FBD-4001-BB24-5377B309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A321-5980-4273-821E-8059998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4C30-0CEE-424A-9412-2F5F227C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26F1-99B8-4AB6-8465-FFDE0CB7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BE24-4FBA-4776-B87C-90AE5D3E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1A9-8545-42F1-BBBE-93A9FC9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AB7B-8820-4F3E-87FC-44C4EAD7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E799-9D25-4198-8441-AB7165E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8871-DECF-48E2-ACFB-1A854F0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F963-EFBA-48C9-BC24-A0E028C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33FC-951C-42B6-A025-99CF3E48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1310-26E6-46D3-8946-9C1EBE7E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7690-B2C4-4AAB-8A31-3888E097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4AA1-A399-4C52-ABF5-1901BBD0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D8EE-EE6D-44EF-A581-BCE0F076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2F08C-44F3-4F2D-ACB3-E7B7D1C2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793-80BF-4E6B-AAE9-17C0D352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4ACD-58AE-4B97-9110-BCDCD98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71D0-9C84-486A-A154-A3FDD10F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2A45-58EF-43D1-AFCB-1A79BE9E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DA6DB-752F-40E1-B2B8-BEE2FE7E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3C63-EE72-4AB9-9A9C-F0619A5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A04F-214E-465E-9FED-DC63C3F6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8D63-F95B-4E4C-BF2F-974F778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9E11-65D5-4624-B5E4-7EF12477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8694-870E-456E-821A-0C7CAE22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CFD-2F89-4E16-B96E-247A950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E9A-C6F2-4FAD-869E-4985A62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568-82AF-4077-B37D-2C35817E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A50-718D-46D5-9545-C1AA6945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567-AB47-4019-83CC-AC65AD1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2084-EA21-4BB3-B808-1AD68A9D33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7B6-144A-417A-A43B-32C21282E46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1F3-6BA8-4B80-AC8E-1200D2156E5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FAA-5CFE-4666-88A1-0896A50C62D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International Conference on Financing Regional Agricultural Policy in West Africa (ECOWAP/CAADP)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Abuja – November 11-12, 2009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378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The main foci of ECOWAP/CAADP 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Commissioner Ousseini Salifou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WAP in light of th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ood crisis of 2008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000" y="1628280"/>
            <a:ext cx="885672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actions to the price increase witnessed in the first half of 2008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t the national leve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merous emergency measures aimed at reducing the effects of the cri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merous initiatives to boost food production in the short-term, in particular for rice and maiz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t the regional leve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firmation of the </a:t>
            </a: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relevance of the ECOWAS regional agricultural policy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the urgent need to provide structural solutions to the cri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May 2008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Extraordinary Council of the Ministers of Economics and Finance, Agriculture and Trade of the 15 countries concerning the price increas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WAP in light of th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ood crisis of 2008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nstantia"/>
              </a:rPr>
              <a:t>June 23, 2008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Adoption of the “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gional Offensive for Food Production and Against Hung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” in response to the food crisis of 200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ee foci aligned with ECOWA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nstantia"/>
              </a:rPr>
              <a:t>The rapid and sustainable increase in food production</a:t>
            </a: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reducing dependence on imports and reducing poverty in rural are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nstantia"/>
              </a:rPr>
              <a:t>The structuring of the value chains and market regulation</a:t>
            </a: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ecuring outlets, stabilizing markets, adapting products to the demand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2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nstantia"/>
              </a:rPr>
              <a:t>Food and nutritional security for vulnerable populations</a:t>
            </a: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implementing safety nets in rural and urban are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ECOWAP/CAADP implementatio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COWAP/CAADP implement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934640"/>
            <a:ext cx="867564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mplementation of ECOWAP/CAADP is based 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t national leve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he NAIPs, which represent the visions, ambitions and priorities of the count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t regional level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3 mobilizing and federating programs, which complement the NAIPs 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ver the regional aspec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nage the interdependences between the countr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ize their cooperation on common ques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nk you for you kind att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main focuses of ECOWAP/CAAD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verview of the present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WAP: a dynamic stimulated by NEP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WAP in light of the agricultural and food challenges facing West Af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WAP in light of the food crisis of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WAP/CAADP implement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ECOWAP: a dynamic stimulated by NEPA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COWAP: a dynamic stimulated by NEP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The Yamoussoukro decision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ndates ECOWAS to coordinate and implement NEPAD in West Africa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Adoption in Maputo of CAADP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mprehensive Africa Agriculture Development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eads of State commit to devoting at least 10% of their state budgets to agricultural develop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Adop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Heads of State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 meeting in Accr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of the ECOWAS agricultural polic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ECOW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ECOWAP: a response to the agricultural and food challenges facing West Afr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WAP: a response to the agricultural and food challenges facing West Afr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ree main challen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37800" indent="-480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o succeed in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providing appropriate food for an increasingly large and highly urbanized population in West Afric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37800" indent="-480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37800" indent="-480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o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promote sustainable developme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at both the social and environmental leve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37800" indent="-480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37800" indent="-480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o contribute to the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construction of an efficient regional marke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and the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incorpor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f the West African agricultural sector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into the international marke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WAP: a response to the agricultural and food challenges facing West Afr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A strategic vi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 m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odern and sustainable agricultur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founded on the effectiveness and efficiency of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family farms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nd the promotion of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agricultural enterprises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rough the involvement of the private sector.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Productive and competitiv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in the intra-Community market as well as the international markets, it must help to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guarantee food security and provide decent incomes for the workers involved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An ambitious go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o provide a lasting contribution to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satisfying the food needs of the populatio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ensuring economic and social development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reducing poverty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in the member states while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reducing inequalities between the territories, zones and countries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WAP: a response to the agricultural and food challenges facing West Afr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Three foci for interven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reas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ductivity and competitiveness of agri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lementation of an intra-Community trad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daptation of the foreign trad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ECOWAP in light of the food crisis of 2008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41:14Z</dcterms:created>
  <dc:creator>Utilisateur Windows</dc:creator>
  <dc:description/>
  <dc:language>en-US</dc:language>
  <cp:lastModifiedBy>Roger Blein</cp:lastModifiedBy>
  <dcterms:modified xsi:type="dcterms:W3CDTF">2009-11-11T07:10:28Z</dcterms:modified>
  <cp:revision>45</cp:revision>
  <dc:subject/>
  <dc:title>Les nouvelles orientations d’ECOWAP à la lumière de la conjoncture internationale</dc:title>
</cp:coreProperties>
</file>