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FCA-D9C3-4D49-A49E-FCD2F871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2D8-6CFD-4EBD-94D0-846076F6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A87-25C2-409F-ABF7-35B71064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D24-FFC2-4F9E-A011-0E5E7DFD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F86D-8A15-4BC3-A17E-BBCA485A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3AAD-7825-4C71-9D85-C02AEC33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0886-EFD6-4076-B847-9B550E62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B6E6-9295-4772-9D3A-76E1E1BE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3071-0FAE-4B47-9F6F-C49C81E2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A6A0-18B9-478A-9EF1-B04D5B87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5B21-CB62-465B-8B6C-D4DFC57D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F54-917D-4BA5-9FF4-9A61DC8B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4592-F100-464D-8187-CCE072FB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83A2-94A5-41F1-9039-6B4ABEB8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FBCD-D20B-4934-BB60-4B02603E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1505-F532-44E0-AC68-5BFD0695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1F0F-830C-4D98-AFE9-DE9ACCA8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A222B-AFD0-4E39-8914-520533E7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57C4-F094-474D-8672-0BF31537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0ACB6-9F9E-40A1-9D85-D2ABEBB6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119BD-97E0-4F2F-89A4-247FCB5A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3B121-9B7C-4AB7-A8C7-087BA85C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6E7A-53BF-47B7-B3B6-B28558AC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1A67-6597-440B-BB44-E4C78AEB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96FC5-B79D-4589-963A-914BF68B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A72DA-4074-4A40-9B9A-DFAC336D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5D656-23D8-4EFA-88CE-7628A058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78EB-A463-4A85-91D1-93D02C11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1566B-2940-4C3B-94FB-3D41B9E1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DC3EB-EE2E-43D9-B066-FF3D1247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7B4EB-B9B3-4CA3-83C0-CACC5F6F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B5743-7702-41AF-AD8B-59F9D991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5AB15-C186-4A1B-8F38-561602CC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DC4-CF66-4D57-B2C3-2104D0CE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BE311-BA0A-4A37-9B0A-049912BA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CDE3A-B243-4FC8-B463-C1BCE81C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26A47-F218-45E9-90C2-3B9F67F9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71315-33F0-4863-AA94-8F783B5F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E1D65-8F6B-4D4B-AF45-02C8385B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F9939-9E8B-4772-BC42-083D4AA4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F26E1-B331-43BF-A13D-4E76D395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7FAB3-4BF6-4B19-A2E2-30303AA0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23069-3EBE-491A-8EE3-78A42C71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EC3-840B-4808-942C-0F1D6697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15A-8D6D-47C9-8773-B2AAB84E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16F-0C33-4C93-A88A-0D1A3510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2D9-B98C-40E8-A99B-E402353E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1E8-D7A6-44A5-9142-361A4E2B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F63A-A333-4B6A-A089-D7D57F84BA2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CF43-981C-4D77-8B5D-4DAC09CDEEB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330C-4502-4BCA-B017-E27E690C864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64E6-CD23-4921-8955-456B4F93D9C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Calibri"/>
              </a:rPr>
              <a:t>Conférence internationale sur le financement de la politique agricole régionale de l’Afrique de l’Ouest (ECOWAP/PDDAA)</a:t>
            </a:r>
            <a:br>
              <a:rPr sz="3600"/>
            </a:br>
            <a:r>
              <a:rPr b="0" lang="en-US" sz="3600" spc="-1" strike="noStrike">
                <a:solidFill>
                  <a:srgbClr val="dbf5f9"/>
                </a:solidFill>
                <a:latin typeface="Calibri"/>
              </a:rPr>
              <a:t>Abuja – 11 &amp; 12 novembre 2009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6000" y="3789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66"/>
                </a:solidFill>
                <a:latin typeface="Constantia"/>
              </a:rPr>
              <a:t>Présentation des objectifs et résultats 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66"/>
                </a:solidFill>
                <a:latin typeface="Constantia"/>
              </a:rPr>
              <a:t>attendus de la conférence 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66"/>
                </a:solidFill>
                <a:latin typeface="Constantia"/>
              </a:rPr>
              <a:t>Salifou Traoré - Conseiller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6430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lan de la présentation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texte et justific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Objectifs de la conférenc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ésultats attendu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071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4617b"/>
                </a:solidFill>
                <a:latin typeface="Calibri"/>
              </a:rPr>
              <a:t>Contexte et justification 1/3</a:t>
            </a: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doption en 2005 de la politique agricole de la CEDEAO, après un processus participatif approfond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ette politique affirme la construc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D’une sécurité et d’une souveraineté alimentair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D’un marché régional intégré et performan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laboration d’un premier plan d’actions en 2005 : mise en œuvre conjointe de l’ECOWAP et du PDDA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ancement en 2007 du processus de formulation du programme d’investissement: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au niveau national: les PN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au niveau régional: les PRIA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ontexte et justification: 2/3 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935000"/>
            <a:ext cx="89647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2008: accélération du processus ECOWAP/PDDAA 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 crise alimentaire, née de la flambée des prix, pousse les responsables de la Communauté à adopter  un programme d’urgence: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« </a:t>
            </a:r>
            <a:r>
              <a:rPr b="0" i="1" lang="en-US" sz="2400" spc="-1" strike="noStrike">
                <a:solidFill>
                  <a:srgbClr val="ff0000"/>
                </a:solidFill>
                <a:latin typeface="Constantia"/>
              </a:rPr>
              <a:t>l’offensive régionale pour la production alimentaire et contre la faim »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 conférence de juillet 2008 au Parlement européen, fait émerger une coalition autour du Président de la commission de la CEDEAO, de l’Union européenne et de la Banque mondiale pou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faire de l’ECOWAP, un modèle de partenariat entre les bailleurs et les organisations régionales d’intégration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86924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ontexte et justification : 3/3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1280" y="1267920"/>
            <a:ext cx="8532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écembre 2008: lancement du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dialogue politiqu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à Paris entre la CEDEAO et les partenaires techniques et financie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Cinq engagement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majeurs pris par la CEDEAO à cette occasion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naliser la préparation des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programmes d’investissement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oter la politique agricole d’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instruments pertinents de gestion du secteur agricole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lnSpc>
                <a:spcPct val="9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éfinir l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ispositif institutionnel et le mécanisme de financeme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lnSpc>
                <a:spcPct val="9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éparer les termes d’un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Pacte régional de Partenari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entre toutes les parties prenante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lnSpc>
                <a:spcPct val="9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ganiser u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nférence internationale sur le financeme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e l’ECOWAP/PDDAA avant fin 2009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Objectifs de la conférence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dopter le Pacte régional de partenaria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our la mise en œuvre de l’ECOWAP/PDDA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 pacte exprime 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’adhésion de toutes les parties prenant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ux orientations, objectifs et dispositions institutionnelles et financières de l’ECOWAP/PDDAA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2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a reconnaissance de l’ECOWAP/PDDA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comm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référence unique d’intervention et de coordin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es appuis dans le secteur agricole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Résultats attendus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Partager la vision de l’ECOWAP/PDD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our la transformation de l’Agriculture ouest africaine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dopter les modalités de mise en œuvre de l’ECOWAP/PDDAA, au niveau régiona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notamment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s trois premiers programmes mobilisateurs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 dispositif institutionnel et le mécanisme de finance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dopter et signer le Pacte régional de partenaria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our la mise en œuvre de l’ECOWAP/PDDA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rci pour votre aimable atten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45:20Z</dcterms:created>
  <dc:creator>Utilisateur Windows</dc:creator>
  <dc:description/>
  <dc:language>en-US</dc:language>
  <cp:lastModifiedBy>Roger Blein</cp:lastModifiedBy>
  <dcterms:modified xsi:type="dcterms:W3CDTF">2009-11-08T11:16:45Z</dcterms:modified>
  <cp:revision>34</cp:revision>
  <dc:subject/>
  <dc:title>Présentation des objectifs et résultats attendus de la conférence</dc:title>
</cp:coreProperties>
</file>