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EFD-2D1D-4F41-B8BD-07F50C88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775-C6E2-4E86-AAEA-5A03C8D0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0D7-BC2A-4D4E-ACAB-F8E4DFD9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19F-D8A3-475A-992F-1B2E0479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DD6-5F24-4A1D-AF5F-9E147B9C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33C3-C772-45E3-9F9E-14DFE3DA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7C63-F98C-4F5B-802D-939BAF9C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BAC9-BA7C-4B8F-8003-102C7BB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1430-1D54-4864-8644-5C84D8B5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03FC-6C78-4D2E-A498-A589433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39D4-B8AF-4455-B4B8-48AF92DD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5CC-5720-4E51-A991-1316B9EA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BDAD-892D-4A25-866F-74F47180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7EF3-F9D5-4AA7-A05F-4A369D13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6E18-A42D-47D5-9AB6-D2011A65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E148-D3C9-481B-949E-1FFAAD1A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F12F-39A9-4D34-9E10-6F9B25AD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FD6A-F32A-454E-8503-6A651B12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48ED-D68C-43C1-B1B6-41C361A1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474C1-BCAB-4EA7-AB3B-863CF704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EE8F-D79B-43D6-BBEC-C5E3C135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72D9E-9A43-4BAA-95D4-4A0DA9BB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061-50B3-40CC-B24B-EF2BF367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E2B2-12E2-4C0F-A197-2377AB48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1676-AD9D-408F-AEAE-F3DD74D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E528-E69D-44C0-A881-3AF6E0DF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FEC3-8E7E-4F0D-9872-251133D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17F0-1391-4B3E-9058-AC1DDA33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AA65-A8D7-4C51-8618-318F7D56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09C8-D27B-4F11-B95C-CCBA6890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402C5-60FB-4579-9140-3F5AB0DA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4CBC3-4A73-4ED4-A890-EE5F4DED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5D95-7F75-4463-BE1D-391A498C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CAD-085D-4A9C-BFE5-952EE990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D49F-6AEA-41A9-B4BF-C35B2D8C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52C58-458A-4D17-972D-07CAEDDB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2885-78AA-4165-997B-498BB12B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30D3-4DCB-4BD7-AADA-5896FCB0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48E32-57E0-4EB3-8C26-AF0DB6CB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7AD57-9DE2-4247-A47B-7525CA05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1717E-4458-401C-8F63-A2284F9A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3ED3A-4461-41D0-844B-C328CE07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0FEBF-9BB3-4959-B7D9-77F4F322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7D7-5BF2-49B0-8047-1FE77C78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9EA-CB6A-4AB3-BD09-4AC6B70D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BD3-4F39-4E78-95CA-5F1463EB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875-6B41-4CC3-9720-FA19B30E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6F5-8D78-4C1E-A15D-A8BE94C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A396-8AEB-46CE-BC0E-2D92B9F123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A4F2-0BE7-4901-85AB-1F250A8C868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CE6-1B67-4D17-B5B3-31EFCBC65F1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965-4D64-48B2-B4F3-C5EEB0864F3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Calibri"/>
              </a:rPr>
              <a:t>International Conference on Financing Regional Agricultural Policy in West Africa (ECOWAP/CAADP)</a:t>
            </a:r>
            <a:br>
              <a:rPr sz="3600"/>
            </a:br>
            <a:r>
              <a:rPr b="0" lang="en-US" sz="3600" spc="-1" strike="noStrike">
                <a:solidFill>
                  <a:srgbClr val="dbf5f9"/>
                </a:solidFill>
                <a:latin typeface="Calibri"/>
              </a:rPr>
              <a:t>Abuja – November 11-12, 2009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3785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Constantia"/>
              </a:rPr>
              <a:t>Presentation of the objectives and </a:t>
            </a:r>
            <a:br>
              <a:rPr sz="3400"/>
            </a:br>
            <a:r>
              <a:rPr b="0" lang="en-US" sz="3400" spc="-1" strike="noStrike">
                <a:solidFill>
                  <a:srgbClr val="000066"/>
                </a:solidFill>
                <a:latin typeface="Constantia"/>
              </a:rPr>
              <a:t>expected results of the conference 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Constantia"/>
              </a:rPr>
              <a:t>Salifou Traoré - Advisor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3986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verview of the presentation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ext and justific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bjectives of the confere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xpected resul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071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4617b"/>
                </a:solidFill>
                <a:latin typeface="Calibri"/>
              </a:rPr>
              <a:t>Context and justification: 1/3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option of the ECOWAS agricultural policy in 2005 following an extensive participatory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policy affirms the development o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od security and food sovereignty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 integrated and efficient regional marke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ition of an initial action plan in 2005: joint implementation of ECOWAP and CAAD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unch of the formulation process for the investment program in 2007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t national level: the NAI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t regional level: the RAIPs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ntext and justification: 2/3 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935000"/>
            <a:ext cx="89647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2008: Acceleration of the ECOWAP/CAADP proces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ood crisis, resulting from the sudden rise in prices, pushes Community executives to adopt an emergency program: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“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The Regional Offensive for Food Production and Against Hunger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”,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nference held in July 2008 in the European Parliament gives rise to a coalition built around the Presidents of ECOWAS, the European Union and the World Bank with a view to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aking ECOWAP a model partnership between the financial backers and the regional integration organizations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8692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ntext and justification: 3/3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cember 2008: Launch of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political dialogu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Paris between ECOWAS and the technical and financial partn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ive main commitmen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aken by ECOWAS at this tim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 finalize the preparation of the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investment program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2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 endow the agricultural policy with the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relevant instruments for managing the agricultural sector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 define the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institutional  framework and financial mechanism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 prepare the terms of a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Regional Partnership Compact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between all the stakeholders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 organize an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international conference on financing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ECOWAP/CAADP before the end of 2009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Objectives of the conference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o adopt the Regional Partnership Compac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or the implementation of ECOWAP/CAAD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ompact expresse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he adherence of all stakeholder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the foci, objectives and institutional and financial mechanisms of ECOWAP/CAADP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2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he recognition of ECOWAP/CAAD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s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ole referential framework for the application and coordin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support in the agricultural sector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pected results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haring of the vision of ECOWAP/CAAD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oncerning the transformation of the West African agricultural sect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e adoption of the terms of implementation of ECOWAP/CAADP at regional lev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in particular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three mobilizing program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stitutional framework and financial mechan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e adoption and signature of the Regional Partnership Compac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or the implementation of ECOWAP/CAAD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nk you for your kind atten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45:20Z</dcterms:created>
  <dc:creator>Utilisateur Windows</dc:creator>
  <dc:description/>
  <dc:language>en-US</dc:language>
  <cp:lastModifiedBy>John Staatz</cp:lastModifiedBy>
  <dcterms:modified xsi:type="dcterms:W3CDTF">2009-11-10T06:29:49Z</dcterms:modified>
  <cp:revision>46</cp:revision>
  <dc:subject/>
  <dc:title>Présentation des objectifs et résultats attendus de la conférence</dc:title>
</cp:coreProperties>
</file>