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738-E8E4-4F87-B681-3AD74434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DAF-D7FF-4D6C-9580-C6DBDF9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DFD-14CD-4434-9033-77C82FF0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EEA-D7E0-4733-A1A4-26DBEB60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B0ED-97AB-456D-AA1F-95C0C4CA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237-1494-461D-912B-4541129E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8711-03F1-40D7-ACF8-3CBFCD5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0B3-A7FA-405B-86F7-DE12366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70B2-9E68-4844-ABAD-649F1CD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D149-F4F6-44E8-8240-51F3B87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7217-FDDC-41B8-92FE-F7C53A5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7D9-04DF-4709-ADB9-E49B241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FF83-82DF-45F5-A261-621806B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7300-5CF5-495A-B679-35DAAA2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5EC-CC70-465F-9010-F76FC255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56DF-891D-45A7-BC4F-0D6AAC89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4787-DF97-4F9B-B312-2A19B0B7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C67-5661-44C7-B9EE-68386CC8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0D5-9575-4751-BA27-553EE57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F4C-586F-4F04-AE19-13E4D27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51C-EFDD-4ECB-A610-EC6A946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019-1ADE-412E-B43D-7DAC4E4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8F1-6924-4DD4-9B5A-9E00E3A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FEA-5B56-4EBF-B71C-DC4FAFF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6A50-FEEE-4AA3-8901-71078AABD9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A287-4D64-46EA-A718-B85BF082D4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99"/>
                </a:solidFill>
                <a:latin typeface="Garamond"/>
              </a:rPr>
              <a:t>Le développement des filières céréalières en Afrique de l’Ouest</a:t>
            </a:r>
            <a:br>
              <a:rPr sz="4300"/>
            </a:br>
            <a:br>
              <a:rPr sz="5200"/>
            </a:br>
            <a:r>
              <a:rPr b="0" lang="en-US" sz="3500" spc="-1" strike="noStrike">
                <a:solidFill>
                  <a:srgbClr val="000099"/>
                </a:solidFill>
                <a:latin typeface="Garamond"/>
              </a:rPr>
              <a:t>4</a:t>
            </a:r>
            <a:r>
              <a:rPr b="0" lang="en-US" sz="3500" spc="-1" strike="noStrike" baseline="30000">
                <a:solidFill>
                  <a:srgbClr val="000099"/>
                </a:solidFill>
                <a:latin typeface="Garamond"/>
              </a:rPr>
              <a:t>er</a:t>
            </a:r>
            <a:r>
              <a:rPr b="0" lang="en-US" sz="3500" spc="-1" strike="noStrike">
                <a:solidFill>
                  <a:srgbClr val="000099"/>
                </a:solidFill>
                <a:latin typeface="Garamond"/>
              </a:rPr>
              <a:t> cadrage général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99"/>
                </a:solidFill>
                <a:latin typeface="Garamond"/>
              </a:rPr>
              <a:t>Les perspectives de la demande et les enjeux pour la production ouest africaine </a:t>
            </a:r>
            <a:endParaRPr b="0" lang="en-US" sz="3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2736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1144440" cy="9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aramond"/>
              </a:rPr>
              <a:t>Je vous remercie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19640" y="3908520"/>
            <a:ext cx="3924360" cy="294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987640" y="765000"/>
            <a:ext cx="3322800" cy="2500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3963960"/>
            <a:ext cx="38512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Plan de la présentation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 structure de la consommation céréaliè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s principales utilisations des céré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s perspectives de la dem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s enjeux pour la produ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régiona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2000" y="4505400"/>
            <a:ext cx="3132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La structure de la consommation céréalièr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e consommation évaluée à 65 millions de ton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e structure de consommation « décalée » par rapport à la structure de production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9290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La structure de la consommation céréalièr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dépendance à l’égard des importations du riz et bl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00000" y="2351160"/>
            <a:ext cx="7632720" cy="4332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1700280"/>
            <a:ext cx="934920" cy="288720"/>
          </a:xfrm>
          <a:prstGeom prst="rightArrow">
            <a:avLst>
              <a:gd name="adj1" fmla="val 50000"/>
              <a:gd name="adj2" fmla="val 8095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La structure de la consommation céréalièr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e part croissante du riz dans les apports calor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aphique 4" descr=""/>
          <p:cNvPicPr/>
          <p:nvPr/>
        </p:nvPicPr>
        <p:blipFill>
          <a:blip r:embed="rId3"/>
          <a:srcRect l="-1382" t="-3650" r="-2362" b="0"/>
          <a:stretch/>
        </p:blipFill>
        <p:spPr>
          <a:xfrm>
            <a:off x="1042920" y="2403360"/>
            <a:ext cx="70581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Principales utilisations des céréale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Alimentation humaine de produits céréaliers transformés au sein du mén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toconsommation des ménages rurau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provisionnement par le marché des ruraux déficitaires et des ménages urba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Valorisation par la transformation artisana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its céréaliers transform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ère traditionne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Valorisation industriell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ser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imentation ani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Pertes et semen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La structure de la consommation céréalièr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La croissance de la demande est lié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À la croissance démographiqu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À l’augmentation des consommations humaines individuel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À la forte augmentation de la production d’aliments du bétail (filières courtes: œufs, poulets, porc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À la croissance de la demande industrie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Perspectives de la demand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vec une population qui double tous les 25 ans, la demande en céréales devrait avoisiner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25 millions de tonnes à l’horizon 203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tte demande pourra être encore supérieure sel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’importance prise par les productions animales dans les systèmes alimentair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 développement de nouvelles utilisations telles que les agro-carbura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Enjeux pour la production régionale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 modèle de croissance de la production depuis 30 ans n’est plus dur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sponibilité des ter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tilisation de terres marginales ou de parcours / compétition céréales – élevage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égradation de la fertilité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 région peut-elle et à quelles conditions assurer sa souveraineté alimentai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spcAft>
                <a:spcPts val="601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Quel modèle d’intensification raisonnée des systèmes de productio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spcAft>
                <a:spcPts val="601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Quel équilibre dans les investissements entre céréales sèches, maïs et riz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88"/>
              </a:spcBef>
              <a:spcAft>
                <a:spcPts val="675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-delà de la production, quelles sont les conditions pour une reconquête du marché intérieur?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7:32:34Z</dcterms:created>
  <dc:creator>Roger Blein</dc:creator>
  <dc:description/>
  <dc:language>en-US</dc:language>
  <cp:lastModifiedBy>Roger Blein</cp:lastModifiedBy>
  <dcterms:modified xsi:type="dcterms:W3CDTF">2010-11-22T11:23:38Z</dcterms:modified>
  <cp:revision>6</cp:revision>
  <dc:subject/>
  <dc:title>Le développement des filières céréalières en Afrique de l’Ouest  4er cadrage général  Les perspectives de la demande et les enjeux pour la production ouest africaine </dc:title>
</cp:coreProperties>
</file>