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3BDD-6325-474B-9C87-12C5E9B4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566C-D2D2-4901-9E0D-C31C6D52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FBC5-E2AA-4267-AD16-55E1A2F0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08F5-0A18-43F8-9C13-189BD7EC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5B7D-2B56-4C4A-8D98-84AC3DE4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8DE5-083D-46A4-9EEB-175952F5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E6F3-FE7A-4A1A-B5FC-896CD770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4BA4-4505-4C58-BC16-8020C39D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10E1-B4F1-45B6-8529-C3D42603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404F-6EA2-45F2-B6C4-622484AA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6913-C72D-4594-B2F6-DF902BBA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CE98-F576-437B-B757-31B4FE35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6153-1CC1-4702-A835-1CC34BFC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27E0-C864-4D51-B657-74429C0A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0CDB-2987-4D5F-A8B8-8A09D952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EAFB-2A7B-4A99-A7E4-9C2DDF5E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7C81-7945-49DB-B66E-F986F75D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7E14-801B-48B5-B702-63565F8B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7531-02AB-4E9D-BB31-D19B4C6F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9EEC-69CB-4107-9957-9340C33B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651C-B839-43C5-81A6-8B1D60EC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5A0F-E5BA-4EC4-BD96-C767D181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11D9-6F6E-4820-ABE9-33843C28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D482-6557-4118-8327-8CAC9E55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E0DB-2CEB-43B7-AB04-874E89C8B39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F2BD-5A74-4D8D-98F3-9BD4C68390D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99"/>
                </a:solidFill>
                <a:latin typeface="Garamond"/>
              </a:rPr>
              <a:t>Le développement des filières céréalières en Afrique de l’Ouest</a:t>
            </a:r>
            <a:br>
              <a:rPr sz="4300"/>
            </a:br>
            <a:br>
              <a:rPr sz="5200"/>
            </a:br>
            <a:r>
              <a:rPr b="0" lang="en-US" sz="3500" spc="-1" strike="noStrike">
                <a:solidFill>
                  <a:srgbClr val="000099"/>
                </a:solidFill>
                <a:latin typeface="Garamond"/>
              </a:rPr>
              <a:t>1</a:t>
            </a:r>
            <a:r>
              <a:rPr b="0" lang="en-US" sz="3500" spc="-1" strike="noStrike" baseline="30000">
                <a:solidFill>
                  <a:srgbClr val="000099"/>
                </a:solidFill>
                <a:latin typeface="Garamond"/>
              </a:rPr>
              <a:t>er</a:t>
            </a:r>
            <a:r>
              <a:rPr b="0" lang="en-US" sz="3500" spc="-1" strike="noStrike">
                <a:solidFill>
                  <a:srgbClr val="000099"/>
                </a:solidFill>
                <a:latin typeface="Garamond"/>
              </a:rPr>
              <a:t> cadrage général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99"/>
                </a:solidFill>
                <a:latin typeface="Garamond"/>
              </a:rPr>
              <a:t>L’Afrique de l’Ouest dans la production et le marché mondial</a:t>
            </a:r>
            <a:endParaRPr b="0" lang="en-US" sz="35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284280"/>
            <a:ext cx="640080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827360" cy="895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740720" y="404640"/>
            <a:ext cx="1144440" cy="957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Garamond"/>
              </a:rPr>
              <a:t>Qui importe les 13 millions de tonnes? </a:t>
            </a:r>
            <a:br>
              <a:rPr sz="3200"/>
            </a:br>
            <a:r>
              <a:rPr b="0" lang="en-US" sz="40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e plus gros producteur est aussi le principal importateu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oids du Sénégal et de la Côte d’Ivoire : 28 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oût des importations pour la région: 1600 md Fcf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827000" cy="895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999560" y="0"/>
            <a:ext cx="1144440" cy="9572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98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03280" y="2830680"/>
          <a:ext cx="7143840" cy="4043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2830680"/>
                    <a:ext cx="7143840" cy="40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600" spc="-1" strike="noStrike">
                <a:solidFill>
                  <a:srgbClr val="000099"/>
                </a:solidFill>
                <a:latin typeface="Garamond"/>
              </a:rPr>
              <a:t>Comment évolue la dépendance alimentaire en céréales ?</a:t>
            </a:r>
            <a:endParaRPr b="0" lang="en-US" sz="2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827000" cy="895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999560" y="0"/>
            <a:ext cx="1144440" cy="9572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5280" y="1565280"/>
          <a:ext cx="8064360" cy="5292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1565280"/>
                    <a:ext cx="806436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Garamond"/>
              </a:rPr>
              <a:t>Comment évolue la dépendance alimentaire en riz ?</a:t>
            </a:r>
            <a:endParaRPr b="0" lang="en-US" sz="2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827000" cy="895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999560" y="0"/>
            <a:ext cx="1144440" cy="957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319040"/>
          <a:ext cx="8317080" cy="553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1319040"/>
                    <a:ext cx="831708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0828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Garamond"/>
              </a:rPr>
              <a:t>Je vous remercie 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827000" cy="895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999560" y="0"/>
            <a:ext cx="1144440" cy="9572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219640" y="3908520"/>
            <a:ext cx="3924360" cy="29494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0" y="3906720"/>
            <a:ext cx="3924360" cy="2951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2340000" y="836640"/>
            <a:ext cx="43196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Garamond"/>
              </a:rPr>
              <a:t>Plan de la présentation 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La place de l’Afrique de l’Ouest dans l’économie mondiale des céréa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Principales évolutions dans la production régionale depuis 30 a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Qui produi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Qui importe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omment évolue la dépendance alimentaire en céréal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827000" cy="895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999560" y="0"/>
            <a:ext cx="1144440" cy="957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La place de l’AO dans l’économie mondiale des céréales</a:t>
            </a:r>
            <a:br>
              <a:rPr sz="2400"/>
            </a:b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820000" cy="48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1. Une place mineure dans la production mondia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55 millions de tonnes sur 2,38 milliards de tonne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827000" cy="895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999560" y="0"/>
            <a:ext cx="1144440" cy="957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Graphique 3" descr=""/>
          <p:cNvPicPr/>
          <p:nvPr/>
        </p:nvPicPr>
        <p:blipFill>
          <a:blip r:embed="rId3"/>
          <a:stretch/>
        </p:blipFill>
        <p:spPr>
          <a:xfrm>
            <a:off x="971640" y="2349360"/>
            <a:ext cx="7488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aramond"/>
              </a:rPr>
              <a:t>La place de l’AO dans l’économie mondiale des céréales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2. Une place mineure dans le commerce mondial des céréal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ortations: nul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ortations : 13 millions de tonnes soit 5 % des échanges mondiau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Verdana"/>
              </a:rPr>
              <a:t>3. Sauf pour le riz…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 la moitié des importations de céréales de la rég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 25 % des importations mondiales de ri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827000" cy="895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999560" y="0"/>
            <a:ext cx="1144440" cy="957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La place de l’AO dans l’économie mondiale des céréales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3300"/>
                </a:solidFill>
                <a:latin typeface="Verdana"/>
              </a:rPr>
              <a:t>4. Les spécificités de l’AO dans le commerce mondia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30000"/>
              </a:lnSpc>
              <a:spcBef>
                <a:spcPts val="876"/>
              </a:spcBef>
              <a:buClr>
                <a:srgbClr val="99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as de véritable marché mondial du m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30000"/>
              </a:lnSpc>
              <a:spcBef>
                <a:spcPts val="876"/>
              </a:spcBef>
              <a:buClr>
                <a:srgbClr val="99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 production régionale est « non échangeable »: pb de normalisation des produits sur les marchés mondiau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30000"/>
              </a:lnSpc>
              <a:spcBef>
                <a:spcPts val="876"/>
              </a:spcBef>
              <a:buClr>
                <a:srgbClr val="99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lle subit les prix mondiaux et n’est pas en mesure de les influencer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827000" cy="895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999560" y="0"/>
            <a:ext cx="1144440" cy="957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aramond"/>
              </a:rPr>
              <a:t>La place de l’AO dans l’économie mondiale des céréales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Verdana"/>
              </a:rPr>
              <a:t>Les spécificités ouest africaine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5000"/>
              </a:lnSpc>
              <a:spcBef>
                <a:spcPts val="901"/>
              </a:spcBef>
              <a:spcAft>
                <a:spcPts val="675"/>
              </a:spcAft>
              <a:buClr>
                <a:srgbClr val="999900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e production fondée sur les exploitations familiales de petite tail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5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5000"/>
              </a:lnSpc>
              <a:spcBef>
                <a:spcPts val="901"/>
              </a:spcBef>
              <a:spcAft>
                <a:spcPts val="675"/>
              </a:spcAft>
              <a:buClr>
                <a:srgbClr val="999900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e production massivement autoconsommée par les ménages ruraux producte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5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5000"/>
              </a:lnSpc>
              <a:spcBef>
                <a:spcPts val="901"/>
              </a:spcBef>
              <a:spcAft>
                <a:spcPts val="675"/>
              </a:spcAft>
              <a:buClr>
                <a:srgbClr val="999900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 villes qui s’approvisionnent en produits importé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105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5000"/>
              </a:lnSpc>
              <a:spcBef>
                <a:spcPts val="901"/>
              </a:spcBef>
              <a:spcAft>
                <a:spcPts val="675"/>
              </a:spcAft>
              <a:buClr>
                <a:srgbClr val="999900"/>
              </a:buClr>
              <a:buSzPct val="7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 marché de plus en plus régionalisé mais encore segment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827000" cy="895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999560" y="0"/>
            <a:ext cx="1144440" cy="957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Garamond"/>
              </a:rPr>
              <a:t>La place de l’AO dans l’économie mondiale des céréales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Les grandes tendances de  la production entre 1980 et 2008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 production est multipliée par 3,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es surfaces sont multipliées par 2,4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es rendements sont multipliés par 1,3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827000" cy="895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999560" y="0"/>
            <a:ext cx="1144440" cy="957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Garamond"/>
              </a:rPr>
              <a:t>Principales évolutions dans la production régionale depuis 30 ans</a:t>
            </a:r>
            <a:r>
              <a:rPr b="0" lang="en-US" sz="40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rte émergence du maï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gnation du ri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pli des mils et sorgh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827000" cy="895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999560" y="0"/>
            <a:ext cx="1144440" cy="957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47640" y="3108240"/>
          <a:ext cx="6624720" cy="3834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3108240"/>
                    <a:ext cx="6624720" cy="38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Garamond"/>
              </a:rPr>
              <a:t>Qui produit</a:t>
            </a:r>
            <a:r>
              <a:rPr b="0" lang="en-US" sz="4000" spc="-1" strike="noStrike">
                <a:solidFill>
                  <a:srgbClr val="000099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Garamond"/>
              </a:rPr>
              <a:t>? 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igéria: 50 - 55 % de la p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iger, Burkina et Mali = 25 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827000" cy="8953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999560" y="0"/>
            <a:ext cx="1144440" cy="957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258920" y="2457360"/>
            <a:ext cx="72738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10:19:03Z</dcterms:created>
  <dc:creator>Roger Blein</dc:creator>
  <dc:description/>
  <dc:language>en-US</dc:language>
  <cp:lastModifiedBy>Roger Blein</cp:lastModifiedBy>
  <dcterms:modified xsi:type="dcterms:W3CDTF">2010-11-22T11:20:40Z</dcterms:modified>
  <cp:revision>9</cp:revision>
  <dc:subject/>
  <dc:title>Le développement des filières céréalières en Afrique de l’Ouest  </dc:title>
</cp:coreProperties>
</file>